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472-3F59-4A1F-A9BB-DEBC9AC5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10C-CF4C-450B-B412-3E8011B5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ECE-E008-4D19-BE18-71A5C1D0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D03A-AD09-405D-8188-5F94BB60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AAB-F7EE-4DEE-805E-144C7B8E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864-482C-4E89-8695-31805EA6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1A2-F4F5-496A-AD6F-EEDA5E85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40D-6A8D-4F38-BE1A-A774CEF1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6FA-0F54-4511-9E26-8AC8CAB3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FEE-DDB2-41A0-B147-BADB9A44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6A88-F1F0-4927-A763-CBEA0601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91F-3842-45BE-836E-FF9ACDE0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643A-A3CE-4BE9-BA2B-7C2652A81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esday, February 19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are in the middle of March Madness!!!  How many games are played in the Men’s NCAA tournament?  Can you write a summation equation describing this total games played during the tournamen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e the express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5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41920" y="1803240"/>
            <a:ext cx="1446120" cy="527040"/>
          </a:xfrm>
          <a:custGeom>
            <a:avLst/>
            <a:gdLst/>
            <a:ahLst/>
            <a:rect l="l" t="t" r="r" b="b"/>
            <a:pathLst>
              <a:path w="4020" h="1464">
                <a:moveTo>
                  <a:pt x="13196" y="5631"/>
                </a:moveTo>
                <a:cubicBezTo>
                  <a:pt x="13436" y="5631"/>
                  <a:pt x="14106" y="5631"/>
                  <a:pt x="13866" y="5631"/>
                </a:cubicBezTo>
              </a:path>
              <a:path w="4020" h="1464">
                <a:moveTo>
                  <a:pt x="13171" y="5953"/>
                </a:moveTo>
                <a:cubicBezTo>
                  <a:pt x="13215" y="5986"/>
                  <a:pt x="13237" y="5978"/>
                  <a:pt x="13295" y="5978"/>
                </a:cubicBezTo>
                <a:cubicBezTo>
                  <a:pt x="13451" y="5978"/>
                  <a:pt x="13628" y="5960"/>
                  <a:pt x="13767" y="6003"/>
                </a:cubicBezTo>
                <a:cubicBezTo>
                  <a:pt x="13791" y="6003"/>
                  <a:pt x="13799" y="6003"/>
                  <a:pt x="13767" y="6003"/>
                </a:cubicBezTo>
              </a:path>
              <a:path w="4020" h="1464">
                <a:moveTo>
                  <a:pt x="15007" y="5259"/>
                </a:moveTo>
                <a:cubicBezTo>
                  <a:pt x="14951" y="5188"/>
                  <a:pt x="14946" y="5164"/>
                  <a:pt x="14858" y="5159"/>
                </a:cubicBezTo>
                <a:cubicBezTo>
                  <a:pt x="14789" y="5155"/>
                  <a:pt x="14724" y="5167"/>
                  <a:pt x="14660" y="5184"/>
                </a:cubicBezTo>
                <a:cubicBezTo>
                  <a:pt x="14564" y="5209"/>
                  <a:pt x="14514" y="5256"/>
                  <a:pt x="14436" y="5308"/>
                </a:cubicBezTo>
                <a:cubicBezTo>
                  <a:pt x="14377" y="5348"/>
                  <a:pt x="14306" y="5393"/>
                  <a:pt x="14337" y="5482"/>
                </a:cubicBezTo>
                <a:cubicBezTo>
                  <a:pt x="14370" y="5577"/>
                  <a:pt x="14442" y="5622"/>
                  <a:pt x="14511" y="5680"/>
                </a:cubicBezTo>
                <a:cubicBezTo>
                  <a:pt x="14598" y="5753"/>
                  <a:pt x="14661" y="5819"/>
                  <a:pt x="14734" y="5904"/>
                </a:cubicBezTo>
                <a:cubicBezTo>
                  <a:pt x="14792" y="5971"/>
                  <a:pt x="14888" y="6033"/>
                  <a:pt x="14908" y="6127"/>
                </a:cubicBezTo>
                <a:cubicBezTo>
                  <a:pt x="14931" y="6234"/>
                  <a:pt x="14891" y="6308"/>
                  <a:pt x="14808" y="6375"/>
                </a:cubicBezTo>
                <a:cubicBezTo>
                  <a:pt x="14744" y="6426"/>
                  <a:pt x="14662" y="6445"/>
                  <a:pt x="14585" y="6449"/>
                </a:cubicBezTo>
                <a:cubicBezTo>
                  <a:pt x="14537" y="6451"/>
                  <a:pt x="14472" y="6429"/>
                  <a:pt x="14436" y="6400"/>
                </a:cubicBezTo>
                <a:cubicBezTo>
                  <a:pt x="14401" y="6372"/>
                  <a:pt x="14403" y="6267"/>
                  <a:pt x="14412" y="6226"/>
                </a:cubicBezTo>
                <a:cubicBezTo>
                  <a:pt x="14434" y="6128"/>
                  <a:pt x="14519" y="6036"/>
                  <a:pt x="14560" y="5953"/>
                </a:cubicBezTo>
                <a:cubicBezTo>
                  <a:pt x="14605" y="5863"/>
                  <a:pt x="14652" y="5760"/>
                  <a:pt x="14709" y="5680"/>
                </a:cubicBezTo>
                <a:cubicBezTo>
                  <a:pt x="14760" y="5609"/>
                  <a:pt x="14832" y="5553"/>
                  <a:pt x="14883" y="5482"/>
                </a:cubicBezTo>
                <a:cubicBezTo>
                  <a:pt x="14921" y="5430"/>
                  <a:pt x="14935" y="5380"/>
                  <a:pt x="14982" y="5333"/>
                </a:cubicBezTo>
                <a:cubicBezTo>
                  <a:pt x="14990" y="5325"/>
                  <a:pt x="14999" y="5316"/>
                  <a:pt x="15007" y="5308"/>
                </a:cubicBezTo>
              </a:path>
              <a:path w="4020" h="1464">
                <a:moveTo>
                  <a:pt x="15255" y="5432"/>
                </a:moveTo>
                <a:cubicBezTo>
                  <a:pt x="15216" y="5542"/>
                  <a:pt x="15172" y="5647"/>
                  <a:pt x="15131" y="5755"/>
                </a:cubicBezTo>
                <a:cubicBezTo>
                  <a:pt x="15100" y="5836"/>
                  <a:pt x="15102" y="5921"/>
                  <a:pt x="15081" y="6003"/>
                </a:cubicBezTo>
                <a:cubicBezTo>
                  <a:pt x="15062" y="6078"/>
                  <a:pt x="15035" y="6172"/>
                  <a:pt x="15056" y="6251"/>
                </a:cubicBezTo>
                <a:cubicBezTo>
                  <a:pt x="15072" y="6312"/>
                  <a:pt x="15118" y="6381"/>
                  <a:pt x="15180" y="6400"/>
                </a:cubicBezTo>
                <a:cubicBezTo>
                  <a:pt x="15231" y="6416"/>
                  <a:pt x="15291" y="6396"/>
                  <a:pt x="15329" y="6375"/>
                </a:cubicBezTo>
                <a:cubicBezTo>
                  <a:pt x="15420" y="6326"/>
                  <a:pt x="15422" y="6307"/>
                  <a:pt x="15478" y="6226"/>
                </a:cubicBezTo>
                <a:cubicBezTo>
                  <a:pt x="15517" y="6170"/>
                  <a:pt x="15528" y="6147"/>
                  <a:pt x="15528" y="6077"/>
                </a:cubicBezTo>
                <a:cubicBezTo>
                  <a:pt x="15528" y="6041"/>
                  <a:pt x="15544" y="5973"/>
                  <a:pt x="15503" y="5953"/>
                </a:cubicBezTo>
                <a:cubicBezTo>
                  <a:pt x="15471" y="5937"/>
                  <a:pt x="15478" y="5928"/>
                  <a:pt x="15429" y="5928"/>
                </a:cubicBezTo>
                <a:cubicBezTo>
                  <a:pt x="15413" y="5949"/>
                  <a:pt x="15361" y="6003"/>
                  <a:pt x="15354" y="6028"/>
                </a:cubicBezTo>
                <a:cubicBezTo>
                  <a:pt x="15339" y="6081"/>
                  <a:pt x="15310" y="6165"/>
                  <a:pt x="15329" y="6226"/>
                </a:cubicBezTo>
                <a:cubicBezTo>
                  <a:pt x="15340" y="6261"/>
                  <a:pt x="15364" y="6312"/>
                  <a:pt x="15379" y="6325"/>
                </a:cubicBezTo>
                <a:cubicBezTo>
                  <a:pt x="15402" y="6348"/>
                  <a:pt x="15406" y="6356"/>
                  <a:pt x="15429" y="6350"/>
                </a:cubicBezTo>
              </a:path>
              <a:path w="4020" h="1464">
                <a:moveTo>
                  <a:pt x="15949" y="5407"/>
                </a:moveTo>
                <a:cubicBezTo>
                  <a:pt x="15973" y="5369"/>
                  <a:pt x="16058" y="5206"/>
                  <a:pt x="16123" y="5184"/>
                </a:cubicBezTo>
                <a:cubicBezTo>
                  <a:pt x="16175" y="5167"/>
                  <a:pt x="16263" y="5146"/>
                  <a:pt x="16321" y="5159"/>
                </a:cubicBezTo>
                <a:cubicBezTo>
                  <a:pt x="16379" y="5172"/>
                  <a:pt x="16435" y="5185"/>
                  <a:pt x="16421" y="5259"/>
                </a:cubicBezTo>
                <a:cubicBezTo>
                  <a:pt x="16410" y="5318"/>
                  <a:pt x="16374" y="5354"/>
                  <a:pt x="16346" y="5407"/>
                </a:cubicBezTo>
                <a:cubicBezTo>
                  <a:pt x="16306" y="5482"/>
                  <a:pt x="16259" y="5504"/>
                  <a:pt x="16197" y="5556"/>
                </a:cubicBezTo>
                <a:cubicBezTo>
                  <a:pt x="16136" y="5607"/>
                  <a:pt x="16054" y="5662"/>
                  <a:pt x="15999" y="5705"/>
                </a:cubicBezTo>
                <a:cubicBezTo>
                  <a:pt x="15999" y="5730"/>
                  <a:pt x="15999" y="5738"/>
                  <a:pt x="15974" y="5730"/>
                </a:cubicBezTo>
                <a:cubicBezTo>
                  <a:pt x="16000" y="5743"/>
                  <a:pt x="15983" y="5762"/>
                  <a:pt x="16024" y="5730"/>
                </a:cubicBezTo>
                <a:cubicBezTo>
                  <a:pt x="16053" y="5708"/>
                  <a:pt x="16063" y="5689"/>
                  <a:pt x="16098" y="5680"/>
                </a:cubicBezTo>
                <a:cubicBezTo>
                  <a:pt x="16143" y="5668"/>
                  <a:pt x="16190" y="5679"/>
                  <a:pt x="16222" y="5705"/>
                </a:cubicBezTo>
                <a:cubicBezTo>
                  <a:pt x="16257" y="5733"/>
                  <a:pt x="16290" y="5810"/>
                  <a:pt x="16297" y="5854"/>
                </a:cubicBezTo>
                <a:cubicBezTo>
                  <a:pt x="16312" y="5943"/>
                  <a:pt x="16304" y="6069"/>
                  <a:pt x="16272" y="6152"/>
                </a:cubicBezTo>
                <a:cubicBezTo>
                  <a:pt x="16238" y="6241"/>
                  <a:pt x="16179" y="6305"/>
                  <a:pt x="16098" y="6350"/>
                </a:cubicBezTo>
                <a:cubicBezTo>
                  <a:pt x="16042" y="6382"/>
                  <a:pt x="15964" y="6396"/>
                  <a:pt x="15900" y="6400"/>
                </a:cubicBezTo>
                <a:cubicBezTo>
                  <a:pt x="15847" y="6403"/>
                  <a:pt x="15814" y="6381"/>
                  <a:pt x="15776" y="6350"/>
                </a:cubicBezTo>
                <a:cubicBezTo>
                  <a:pt x="15791" y="6320"/>
                  <a:pt x="15805" y="6286"/>
                  <a:pt x="15825" y="6251"/>
                </a:cubicBezTo>
              </a:path>
              <a:path w="4020" h="1464">
                <a:moveTo>
                  <a:pt x="16669" y="5308"/>
                </a:moveTo>
                <a:cubicBezTo>
                  <a:pt x="16713" y="5367"/>
                  <a:pt x="16681" y="5352"/>
                  <a:pt x="16669" y="5407"/>
                </a:cubicBezTo>
                <a:cubicBezTo>
                  <a:pt x="16658" y="5459"/>
                  <a:pt x="16664" y="5505"/>
                  <a:pt x="16644" y="5556"/>
                </a:cubicBezTo>
                <a:cubicBezTo>
                  <a:pt x="16624" y="5605"/>
                  <a:pt x="16599" y="5653"/>
                  <a:pt x="16594" y="5705"/>
                </a:cubicBezTo>
                <a:cubicBezTo>
                  <a:pt x="16589" y="5756"/>
                  <a:pt x="16592" y="5759"/>
                  <a:pt x="16619" y="5779"/>
                </a:cubicBezTo>
                <a:cubicBezTo>
                  <a:pt x="16661" y="5811"/>
                  <a:pt x="16687" y="5826"/>
                  <a:pt x="16743" y="5829"/>
                </a:cubicBezTo>
                <a:cubicBezTo>
                  <a:pt x="16811" y="5833"/>
                  <a:pt x="16927" y="5800"/>
                  <a:pt x="16991" y="5779"/>
                </a:cubicBezTo>
                <a:cubicBezTo>
                  <a:pt x="17054" y="5758"/>
                  <a:pt x="17103" y="5682"/>
                  <a:pt x="17140" y="5631"/>
                </a:cubicBezTo>
              </a:path>
              <a:path w="4020" h="1464">
                <a:moveTo>
                  <a:pt x="17066" y="5011"/>
                </a:moveTo>
                <a:cubicBezTo>
                  <a:pt x="17066" y="5294"/>
                  <a:pt x="17063" y="5575"/>
                  <a:pt x="17090" y="5854"/>
                </a:cubicBezTo>
                <a:cubicBezTo>
                  <a:pt x="17104" y="5997"/>
                  <a:pt x="17092" y="6139"/>
                  <a:pt x="17115" y="6276"/>
                </a:cubicBezTo>
                <a:cubicBezTo>
                  <a:pt x="17125" y="6335"/>
                  <a:pt x="17148" y="6375"/>
                  <a:pt x="17165" y="6424"/>
                </a:cubicBezTo>
                <a:cubicBezTo>
                  <a:pt x="17173" y="6449"/>
                  <a:pt x="17222" y="6487"/>
                  <a:pt x="17165" y="64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7680" y="3133800"/>
            <a:ext cx="241200" cy="81000"/>
          </a:xfrm>
          <a:custGeom>
            <a:avLst/>
            <a:gdLst/>
            <a:ahLst/>
            <a:rect l="l" t="t" r="r" b="b"/>
            <a:pathLst>
              <a:path w="670" h="225">
                <a:moveTo>
                  <a:pt x="8037" y="8731"/>
                </a:moveTo>
                <a:cubicBezTo>
                  <a:pt x="8050" y="8693"/>
                  <a:pt x="8066" y="8706"/>
                  <a:pt x="8111" y="8706"/>
                </a:cubicBezTo>
                <a:cubicBezTo>
                  <a:pt x="8276" y="8706"/>
                  <a:pt x="8442" y="8706"/>
                  <a:pt x="8607" y="8706"/>
                </a:cubicBezTo>
              </a:path>
              <a:path w="670" h="225">
                <a:moveTo>
                  <a:pt x="7938" y="8930"/>
                </a:moveTo>
                <a:cubicBezTo>
                  <a:pt x="8100" y="8930"/>
                  <a:pt x="8240" y="8901"/>
                  <a:pt x="8384" y="8880"/>
                </a:cubicBezTo>
                <a:cubicBezTo>
                  <a:pt x="8509" y="8880"/>
                  <a:pt x="8537" y="8888"/>
                  <a:pt x="8607" y="88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21000" y="2955960"/>
            <a:ext cx="1046160" cy="509400"/>
          </a:xfrm>
          <a:custGeom>
            <a:avLst/>
            <a:gdLst/>
            <a:ahLst/>
            <a:rect l="l" t="t" r="r" b="b"/>
            <a:pathLst>
              <a:path w="2903" h="1415">
                <a:moveTo>
                  <a:pt x="9376" y="8334"/>
                </a:moveTo>
                <a:cubicBezTo>
                  <a:pt x="9369" y="8417"/>
                  <a:pt x="9356" y="8504"/>
                  <a:pt x="9327" y="8582"/>
                </a:cubicBezTo>
                <a:cubicBezTo>
                  <a:pt x="9296" y="8664"/>
                  <a:pt x="9274" y="8703"/>
                  <a:pt x="9252" y="8781"/>
                </a:cubicBezTo>
                <a:cubicBezTo>
                  <a:pt x="9244" y="8807"/>
                  <a:pt x="9225" y="8873"/>
                  <a:pt x="9227" y="8880"/>
                </a:cubicBezTo>
                <a:cubicBezTo>
                  <a:pt x="9241" y="8927"/>
                  <a:pt x="9286" y="8941"/>
                  <a:pt x="9327" y="8954"/>
                </a:cubicBezTo>
                <a:cubicBezTo>
                  <a:pt x="9378" y="8971"/>
                  <a:pt x="9415" y="8990"/>
                  <a:pt x="9451" y="9004"/>
                </a:cubicBezTo>
                <a:cubicBezTo>
                  <a:pt x="9575" y="9054"/>
                  <a:pt x="9811" y="9004"/>
                  <a:pt x="9947" y="9004"/>
                </a:cubicBezTo>
              </a:path>
              <a:path w="2903" h="1415">
                <a:moveTo>
                  <a:pt x="9823" y="8210"/>
                </a:moveTo>
                <a:cubicBezTo>
                  <a:pt x="9801" y="8292"/>
                  <a:pt x="9798" y="8348"/>
                  <a:pt x="9798" y="8434"/>
                </a:cubicBezTo>
                <a:cubicBezTo>
                  <a:pt x="9798" y="8660"/>
                  <a:pt x="9806" y="8881"/>
                  <a:pt x="9823" y="9103"/>
                </a:cubicBezTo>
                <a:cubicBezTo>
                  <a:pt x="9832" y="9224"/>
                  <a:pt x="9837" y="9334"/>
                  <a:pt x="9872" y="9451"/>
                </a:cubicBezTo>
                <a:cubicBezTo>
                  <a:pt x="9880" y="9477"/>
                  <a:pt x="9908" y="9583"/>
                  <a:pt x="9922" y="9599"/>
                </a:cubicBezTo>
                <a:cubicBezTo>
                  <a:pt x="9957" y="9639"/>
                  <a:pt x="9967" y="9601"/>
                  <a:pt x="9996" y="9550"/>
                </a:cubicBezTo>
              </a:path>
              <a:path w="2903" h="1415">
                <a:moveTo>
                  <a:pt x="10344" y="8508"/>
                </a:moveTo>
                <a:cubicBezTo>
                  <a:pt x="10313" y="8648"/>
                  <a:pt x="10267" y="8790"/>
                  <a:pt x="10244" y="8930"/>
                </a:cubicBezTo>
                <a:cubicBezTo>
                  <a:pt x="10227" y="9028"/>
                  <a:pt x="10246" y="9134"/>
                  <a:pt x="10269" y="9227"/>
                </a:cubicBezTo>
                <a:cubicBezTo>
                  <a:pt x="10287" y="9297"/>
                  <a:pt x="10338" y="9418"/>
                  <a:pt x="10418" y="9451"/>
                </a:cubicBezTo>
                <a:cubicBezTo>
                  <a:pt x="10475" y="9474"/>
                  <a:pt x="10567" y="9456"/>
                  <a:pt x="10616" y="9451"/>
                </a:cubicBezTo>
                <a:cubicBezTo>
                  <a:pt x="10707" y="9441"/>
                  <a:pt x="10773" y="9451"/>
                  <a:pt x="10840" y="9376"/>
                </a:cubicBezTo>
                <a:cubicBezTo>
                  <a:pt x="10899" y="9310"/>
                  <a:pt x="10951" y="9190"/>
                  <a:pt x="10964" y="9103"/>
                </a:cubicBezTo>
                <a:cubicBezTo>
                  <a:pt x="10983" y="8978"/>
                  <a:pt x="10974" y="8826"/>
                  <a:pt x="10939" y="8706"/>
                </a:cubicBezTo>
                <a:cubicBezTo>
                  <a:pt x="10910" y="8605"/>
                  <a:pt x="10877" y="8501"/>
                  <a:pt x="10790" y="8434"/>
                </a:cubicBezTo>
                <a:cubicBezTo>
                  <a:pt x="10714" y="8375"/>
                  <a:pt x="10634" y="8359"/>
                  <a:pt x="10542" y="8359"/>
                </a:cubicBezTo>
                <a:cubicBezTo>
                  <a:pt x="10484" y="8359"/>
                  <a:pt x="10398" y="8427"/>
                  <a:pt x="10368" y="8483"/>
                </a:cubicBezTo>
                <a:cubicBezTo>
                  <a:pt x="10331" y="8552"/>
                  <a:pt x="10281" y="8652"/>
                  <a:pt x="10269" y="8731"/>
                </a:cubicBezTo>
                <a:cubicBezTo>
                  <a:pt x="10257" y="8814"/>
                  <a:pt x="10226" y="8919"/>
                  <a:pt x="10244" y="9004"/>
                </a:cubicBezTo>
                <a:cubicBezTo>
                  <a:pt x="10263" y="9095"/>
                  <a:pt x="10274" y="9173"/>
                  <a:pt x="10319" y="9252"/>
                </a:cubicBezTo>
                <a:cubicBezTo>
                  <a:pt x="10362" y="9329"/>
                  <a:pt x="10345" y="9281"/>
                  <a:pt x="10418" y="9327"/>
                </a:cubicBezTo>
              </a:path>
              <a:path w="2903" h="1415">
                <a:moveTo>
                  <a:pt x="11336" y="8434"/>
                </a:moveTo>
                <a:cubicBezTo>
                  <a:pt x="11320" y="8574"/>
                  <a:pt x="11291" y="8716"/>
                  <a:pt x="11286" y="8855"/>
                </a:cubicBezTo>
                <a:cubicBezTo>
                  <a:pt x="11281" y="8986"/>
                  <a:pt x="11253" y="9182"/>
                  <a:pt x="11311" y="9302"/>
                </a:cubicBezTo>
                <a:cubicBezTo>
                  <a:pt x="11343" y="9369"/>
                  <a:pt x="11466" y="9466"/>
                  <a:pt x="11534" y="9500"/>
                </a:cubicBezTo>
                <a:cubicBezTo>
                  <a:pt x="11617" y="9542"/>
                  <a:pt x="11704" y="9532"/>
                  <a:pt x="11782" y="9525"/>
                </a:cubicBezTo>
                <a:cubicBezTo>
                  <a:pt x="11908" y="9514"/>
                  <a:pt x="11908" y="9472"/>
                  <a:pt x="12005" y="9401"/>
                </a:cubicBezTo>
                <a:cubicBezTo>
                  <a:pt x="12099" y="9333"/>
                  <a:pt x="12082" y="9259"/>
                  <a:pt x="12105" y="9153"/>
                </a:cubicBezTo>
                <a:cubicBezTo>
                  <a:pt x="12128" y="9046"/>
                  <a:pt x="12144" y="8962"/>
                  <a:pt x="12105" y="8855"/>
                </a:cubicBezTo>
                <a:cubicBezTo>
                  <a:pt x="12070" y="8759"/>
                  <a:pt x="12023" y="8706"/>
                  <a:pt x="11956" y="8632"/>
                </a:cubicBezTo>
                <a:cubicBezTo>
                  <a:pt x="11906" y="8576"/>
                  <a:pt x="11806" y="8502"/>
                  <a:pt x="11733" y="8483"/>
                </a:cubicBezTo>
                <a:cubicBezTo>
                  <a:pt x="11669" y="8466"/>
                  <a:pt x="11577" y="8483"/>
                  <a:pt x="11509" y="84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7760" y="3929040"/>
            <a:ext cx="1160280" cy="571680"/>
          </a:xfrm>
          <a:custGeom>
            <a:avLst/>
            <a:gdLst/>
            <a:ahLst/>
            <a:rect l="l" t="t" r="r" b="b"/>
            <a:pathLst>
              <a:path w="3226" h="1589">
                <a:moveTo>
                  <a:pt x="13965" y="11385"/>
                </a:moveTo>
                <a:cubicBezTo>
                  <a:pt x="14061" y="11385"/>
                  <a:pt x="14126" y="11395"/>
                  <a:pt x="14213" y="11410"/>
                </a:cubicBezTo>
                <a:cubicBezTo>
                  <a:pt x="14242" y="11415"/>
                  <a:pt x="14281" y="11410"/>
                  <a:pt x="14312" y="11410"/>
                </a:cubicBezTo>
              </a:path>
              <a:path w="3226" h="1589">
                <a:moveTo>
                  <a:pt x="14089" y="11683"/>
                </a:moveTo>
                <a:cubicBezTo>
                  <a:pt x="14172" y="11683"/>
                  <a:pt x="14254" y="11683"/>
                  <a:pt x="14337" y="11683"/>
                </a:cubicBezTo>
              </a:path>
              <a:path w="3226" h="1589">
                <a:moveTo>
                  <a:pt x="14883" y="11112"/>
                </a:moveTo>
                <a:cubicBezTo>
                  <a:pt x="14883" y="11169"/>
                  <a:pt x="14891" y="11211"/>
                  <a:pt x="14858" y="11261"/>
                </a:cubicBezTo>
                <a:cubicBezTo>
                  <a:pt x="14836" y="11293"/>
                  <a:pt x="14794" y="11371"/>
                  <a:pt x="14784" y="11410"/>
                </a:cubicBezTo>
                <a:cubicBezTo>
                  <a:pt x="14772" y="11455"/>
                  <a:pt x="14759" y="11487"/>
                  <a:pt x="14759" y="11534"/>
                </a:cubicBezTo>
                <a:cubicBezTo>
                  <a:pt x="14759" y="11571"/>
                  <a:pt x="14801" y="11598"/>
                  <a:pt x="14833" y="11609"/>
                </a:cubicBezTo>
                <a:cubicBezTo>
                  <a:pt x="14886" y="11627"/>
                  <a:pt x="15007" y="11627"/>
                  <a:pt x="15056" y="11633"/>
                </a:cubicBezTo>
                <a:cubicBezTo>
                  <a:pt x="15128" y="11642"/>
                  <a:pt x="15190" y="11633"/>
                  <a:pt x="15255" y="11609"/>
                </a:cubicBezTo>
              </a:path>
              <a:path w="3226" h="1589">
                <a:moveTo>
                  <a:pt x="15230" y="10914"/>
                </a:moveTo>
                <a:cubicBezTo>
                  <a:pt x="15206" y="11003"/>
                  <a:pt x="15205" y="11069"/>
                  <a:pt x="15205" y="11162"/>
                </a:cubicBezTo>
                <a:cubicBezTo>
                  <a:pt x="15205" y="11437"/>
                  <a:pt x="15200" y="11712"/>
                  <a:pt x="15230" y="11981"/>
                </a:cubicBezTo>
                <a:cubicBezTo>
                  <a:pt x="15236" y="12039"/>
                  <a:pt x="15229" y="12152"/>
                  <a:pt x="15255" y="12204"/>
                </a:cubicBezTo>
                <a:cubicBezTo>
                  <a:pt x="15277" y="12248"/>
                  <a:pt x="15281" y="12254"/>
                  <a:pt x="15329" y="12254"/>
                </a:cubicBezTo>
              </a:path>
              <a:path w="3226" h="1589">
                <a:moveTo>
                  <a:pt x="15999" y="11212"/>
                </a:moveTo>
                <a:cubicBezTo>
                  <a:pt x="15962" y="11112"/>
                  <a:pt x="15953" y="11097"/>
                  <a:pt x="15875" y="11038"/>
                </a:cubicBezTo>
                <a:cubicBezTo>
                  <a:pt x="15838" y="11010"/>
                  <a:pt x="15751" y="10995"/>
                  <a:pt x="15701" y="11013"/>
                </a:cubicBezTo>
                <a:cubicBezTo>
                  <a:pt x="15624" y="11041"/>
                  <a:pt x="15581" y="11055"/>
                  <a:pt x="15577" y="11137"/>
                </a:cubicBezTo>
                <a:cubicBezTo>
                  <a:pt x="15574" y="11210"/>
                  <a:pt x="15598" y="11269"/>
                  <a:pt x="15627" y="11336"/>
                </a:cubicBezTo>
                <a:cubicBezTo>
                  <a:pt x="15682" y="11464"/>
                  <a:pt x="15768" y="11582"/>
                  <a:pt x="15825" y="11708"/>
                </a:cubicBezTo>
                <a:cubicBezTo>
                  <a:pt x="15879" y="11827"/>
                  <a:pt x="15901" y="11905"/>
                  <a:pt x="15925" y="12030"/>
                </a:cubicBezTo>
                <a:cubicBezTo>
                  <a:pt x="15941" y="12111"/>
                  <a:pt x="15973" y="12176"/>
                  <a:pt x="15925" y="12254"/>
                </a:cubicBezTo>
                <a:cubicBezTo>
                  <a:pt x="15911" y="12276"/>
                  <a:pt x="15849" y="12305"/>
                  <a:pt x="15825" y="12303"/>
                </a:cubicBezTo>
                <a:cubicBezTo>
                  <a:pt x="15790" y="12300"/>
                  <a:pt x="15761" y="12223"/>
                  <a:pt x="15751" y="12204"/>
                </a:cubicBezTo>
                <a:cubicBezTo>
                  <a:pt x="15720" y="12146"/>
                  <a:pt x="15704" y="12070"/>
                  <a:pt x="15701" y="12005"/>
                </a:cubicBezTo>
                <a:cubicBezTo>
                  <a:pt x="15697" y="11905"/>
                  <a:pt x="15739" y="11799"/>
                  <a:pt x="15776" y="11708"/>
                </a:cubicBezTo>
                <a:cubicBezTo>
                  <a:pt x="15815" y="11614"/>
                  <a:pt x="15871" y="11542"/>
                  <a:pt x="15925" y="11460"/>
                </a:cubicBezTo>
                <a:cubicBezTo>
                  <a:pt x="15970" y="11392"/>
                  <a:pt x="16027" y="11343"/>
                  <a:pt x="16073" y="11286"/>
                </a:cubicBezTo>
                <a:cubicBezTo>
                  <a:pt x="16098" y="11237"/>
                  <a:pt x="16107" y="11220"/>
                  <a:pt x="16148" y="11212"/>
                </a:cubicBezTo>
              </a:path>
              <a:path w="3226" h="1589">
                <a:moveTo>
                  <a:pt x="16421" y="11063"/>
                </a:moveTo>
                <a:cubicBezTo>
                  <a:pt x="16540" y="11063"/>
                  <a:pt x="16766" y="11099"/>
                  <a:pt x="16867" y="11038"/>
                </a:cubicBezTo>
              </a:path>
              <a:path w="3226" h="1589">
                <a:moveTo>
                  <a:pt x="16570" y="11013"/>
                </a:moveTo>
                <a:cubicBezTo>
                  <a:pt x="16519" y="11099"/>
                  <a:pt x="16485" y="11184"/>
                  <a:pt x="16446" y="11261"/>
                </a:cubicBezTo>
                <a:cubicBezTo>
                  <a:pt x="16426" y="11301"/>
                  <a:pt x="16407" y="11330"/>
                  <a:pt x="16421" y="11385"/>
                </a:cubicBezTo>
                <a:cubicBezTo>
                  <a:pt x="16430" y="11420"/>
                  <a:pt x="16436" y="11448"/>
                  <a:pt x="16470" y="11460"/>
                </a:cubicBezTo>
                <a:cubicBezTo>
                  <a:pt x="16555" y="11491"/>
                  <a:pt x="16712" y="11469"/>
                  <a:pt x="16793" y="11485"/>
                </a:cubicBezTo>
                <a:cubicBezTo>
                  <a:pt x="16874" y="11501"/>
                  <a:pt x="16952" y="11542"/>
                  <a:pt x="17016" y="11609"/>
                </a:cubicBezTo>
                <a:cubicBezTo>
                  <a:pt x="17077" y="11673"/>
                  <a:pt x="17105" y="11777"/>
                  <a:pt x="17140" y="11857"/>
                </a:cubicBezTo>
                <a:cubicBezTo>
                  <a:pt x="17171" y="11929"/>
                  <a:pt x="17202" y="12049"/>
                  <a:pt x="17190" y="12129"/>
                </a:cubicBezTo>
                <a:cubicBezTo>
                  <a:pt x="17181" y="12190"/>
                  <a:pt x="17138" y="12333"/>
                  <a:pt x="17090" y="12378"/>
                </a:cubicBezTo>
                <a:cubicBezTo>
                  <a:pt x="17028" y="12436"/>
                  <a:pt x="16965" y="12453"/>
                  <a:pt x="16892" y="12477"/>
                </a:cubicBezTo>
                <a:cubicBezTo>
                  <a:pt x="16821" y="12501"/>
                  <a:pt x="16771" y="12502"/>
                  <a:pt x="16694" y="12502"/>
                </a:cubicBezTo>
                <a:cubicBezTo>
                  <a:pt x="16657" y="12502"/>
                  <a:pt x="16580" y="12491"/>
                  <a:pt x="16545" y="12477"/>
                </a:cubicBezTo>
                <a:cubicBezTo>
                  <a:pt x="16511" y="12463"/>
                  <a:pt x="16508" y="12512"/>
                  <a:pt x="16520" y="12477"/>
                </a:cubicBezTo>
                <a:cubicBezTo>
                  <a:pt x="16520" y="12469"/>
                  <a:pt x="16520" y="12460"/>
                  <a:pt x="16520" y="124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Pages 661-662</a:t>
            </a:r>
            <a:br>
              <a:rPr sz="8500"/>
            </a:b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#1-17 &amp; 79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Lesson 9.5</a:t>
            </a: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the “binomial coefficient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binom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87680" y="3303720"/>
            <a:ext cx="1455480" cy="741240"/>
          </a:xfrm>
          <a:custGeom>
            <a:avLst/>
            <a:gdLst/>
            <a:ahLst/>
            <a:rect l="l" t="t" r="r" b="b"/>
            <a:pathLst>
              <a:path w="4044" h="2060">
                <a:moveTo>
                  <a:pt x="5085" y="9401"/>
                </a:moveTo>
                <a:cubicBezTo>
                  <a:pt x="5077" y="9393"/>
                  <a:pt x="5068" y="9384"/>
                  <a:pt x="5060" y="9376"/>
                </a:cubicBezTo>
                <a:cubicBezTo>
                  <a:pt x="5050" y="9407"/>
                  <a:pt x="5004" y="9428"/>
                  <a:pt x="4986" y="9451"/>
                </a:cubicBezTo>
                <a:cubicBezTo>
                  <a:pt x="4969" y="9474"/>
                  <a:pt x="4930" y="9520"/>
                  <a:pt x="4911" y="9550"/>
                </a:cubicBezTo>
                <a:cubicBezTo>
                  <a:pt x="4870" y="9614"/>
                  <a:pt x="4858" y="9687"/>
                  <a:pt x="4812" y="9748"/>
                </a:cubicBezTo>
                <a:cubicBezTo>
                  <a:pt x="4768" y="9807"/>
                  <a:pt x="4731" y="9897"/>
                  <a:pt x="4713" y="9971"/>
                </a:cubicBezTo>
                <a:cubicBezTo>
                  <a:pt x="4694" y="10048"/>
                  <a:pt x="4688" y="10112"/>
                  <a:pt x="4688" y="10195"/>
                </a:cubicBezTo>
                <a:cubicBezTo>
                  <a:pt x="4688" y="10290"/>
                  <a:pt x="4706" y="10337"/>
                  <a:pt x="4713" y="10418"/>
                </a:cubicBezTo>
                <a:cubicBezTo>
                  <a:pt x="4718" y="10473"/>
                  <a:pt x="4749" y="10514"/>
                  <a:pt x="4762" y="10567"/>
                </a:cubicBezTo>
                <a:cubicBezTo>
                  <a:pt x="4762" y="10602"/>
                  <a:pt x="4767" y="10619"/>
                  <a:pt x="4787" y="10641"/>
                </a:cubicBezTo>
              </a:path>
              <a:path w="4044" h="2060">
                <a:moveTo>
                  <a:pt x="5259" y="9971"/>
                </a:moveTo>
                <a:cubicBezTo>
                  <a:pt x="5303" y="10017"/>
                  <a:pt x="5270" y="10064"/>
                  <a:pt x="5308" y="10120"/>
                </a:cubicBezTo>
                <a:cubicBezTo>
                  <a:pt x="5325" y="10145"/>
                  <a:pt x="5455" y="10323"/>
                  <a:pt x="5482" y="10344"/>
                </a:cubicBezTo>
                <a:cubicBezTo>
                  <a:pt x="5524" y="10376"/>
                  <a:pt x="5596" y="10463"/>
                  <a:pt x="5655" y="10492"/>
                </a:cubicBezTo>
                <a:cubicBezTo>
                  <a:pt x="5704" y="10517"/>
                  <a:pt x="5752" y="10486"/>
                  <a:pt x="5804" y="10517"/>
                </a:cubicBezTo>
              </a:path>
              <a:path w="4044" h="2060">
                <a:moveTo>
                  <a:pt x="5531" y="9897"/>
                </a:moveTo>
                <a:cubicBezTo>
                  <a:pt x="5449" y="10009"/>
                  <a:pt x="5389" y="10088"/>
                  <a:pt x="5308" y="10195"/>
                </a:cubicBezTo>
                <a:cubicBezTo>
                  <a:pt x="5272" y="10243"/>
                  <a:pt x="5245" y="10297"/>
                  <a:pt x="5209" y="10344"/>
                </a:cubicBezTo>
                <a:cubicBezTo>
                  <a:pt x="5184" y="10377"/>
                  <a:pt x="5161" y="10410"/>
                  <a:pt x="5135" y="10443"/>
                </a:cubicBezTo>
              </a:path>
              <a:path w="4044" h="2060">
                <a:moveTo>
                  <a:pt x="6028" y="9847"/>
                </a:moveTo>
                <a:cubicBezTo>
                  <a:pt x="6028" y="9973"/>
                  <a:pt x="6039" y="10075"/>
                  <a:pt x="6052" y="10195"/>
                </a:cubicBezTo>
                <a:cubicBezTo>
                  <a:pt x="6058" y="10244"/>
                  <a:pt x="6061" y="10329"/>
                  <a:pt x="6102" y="10344"/>
                </a:cubicBezTo>
                <a:cubicBezTo>
                  <a:pt x="6110" y="10344"/>
                  <a:pt x="6119" y="10344"/>
                  <a:pt x="6127" y="10344"/>
                </a:cubicBezTo>
              </a:path>
              <a:path w="4044" h="2060">
                <a:moveTo>
                  <a:pt x="5854" y="10120"/>
                </a:moveTo>
                <a:cubicBezTo>
                  <a:pt x="5995" y="10120"/>
                  <a:pt x="6135" y="10120"/>
                  <a:pt x="6276" y="10120"/>
                </a:cubicBezTo>
              </a:path>
              <a:path w="4044" h="2060">
                <a:moveTo>
                  <a:pt x="6573" y="10046"/>
                </a:moveTo>
                <a:cubicBezTo>
                  <a:pt x="6565" y="10163"/>
                  <a:pt x="6560" y="10229"/>
                  <a:pt x="6573" y="10344"/>
                </a:cubicBezTo>
                <a:cubicBezTo>
                  <a:pt x="6588" y="10474"/>
                  <a:pt x="6582" y="10381"/>
                  <a:pt x="6648" y="10443"/>
                </a:cubicBezTo>
                <a:cubicBezTo>
                  <a:pt x="6682" y="10443"/>
                  <a:pt x="6695" y="10452"/>
                  <a:pt x="6697" y="10492"/>
                </a:cubicBezTo>
                <a:cubicBezTo>
                  <a:pt x="6720" y="10460"/>
                  <a:pt x="6783" y="10438"/>
                  <a:pt x="6796" y="10418"/>
                </a:cubicBezTo>
                <a:cubicBezTo>
                  <a:pt x="6825" y="10373"/>
                  <a:pt x="6861" y="10322"/>
                  <a:pt x="6871" y="10269"/>
                </a:cubicBezTo>
                <a:cubicBezTo>
                  <a:pt x="6886" y="10186"/>
                  <a:pt x="6902" y="10163"/>
                  <a:pt x="6871" y="10071"/>
                </a:cubicBezTo>
                <a:cubicBezTo>
                  <a:pt x="6863" y="10128"/>
                  <a:pt x="6848" y="10159"/>
                  <a:pt x="6846" y="10220"/>
                </a:cubicBezTo>
                <a:cubicBezTo>
                  <a:pt x="6842" y="10318"/>
                  <a:pt x="6861" y="10399"/>
                  <a:pt x="6871" y="10492"/>
                </a:cubicBezTo>
                <a:cubicBezTo>
                  <a:pt x="6884" y="10605"/>
                  <a:pt x="6878" y="10727"/>
                  <a:pt x="6896" y="10840"/>
                </a:cubicBezTo>
                <a:cubicBezTo>
                  <a:pt x="6914" y="10953"/>
                  <a:pt x="6942" y="11047"/>
                  <a:pt x="6896" y="11162"/>
                </a:cubicBezTo>
                <a:cubicBezTo>
                  <a:pt x="6878" y="11208"/>
                  <a:pt x="6766" y="11247"/>
                  <a:pt x="6722" y="11237"/>
                </a:cubicBezTo>
                <a:cubicBezTo>
                  <a:pt x="6650" y="11221"/>
                  <a:pt x="6575" y="11160"/>
                  <a:pt x="6524" y="11112"/>
                </a:cubicBezTo>
                <a:cubicBezTo>
                  <a:pt x="6473" y="11064"/>
                  <a:pt x="6436" y="11023"/>
                  <a:pt x="6400" y="10964"/>
                </a:cubicBezTo>
              </a:path>
              <a:path w="4044" h="2060">
                <a:moveTo>
                  <a:pt x="7020" y="9302"/>
                </a:moveTo>
                <a:cubicBezTo>
                  <a:pt x="7095" y="9366"/>
                  <a:pt x="7241" y="9463"/>
                  <a:pt x="7293" y="9550"/>
                </a:cubicBezTo>
                <a:cubicBezTo>
                  <a:pt x="7359" y="9660"/>
                  <a:pt x="7418" y="9802"/>
                  <a:pt x="7466" y="9922"/>
                </a:cubicBezTo>
                <a:cubicBezTo>
                  <a:pt x="7504" y="10016"/>
                  <a:pt x="7530" y="10191"/>
                  <a:pt x="7516" y="10294"/>
                </a:cubicBezTo>
                <a:cubicBezTo>
                  <a:pt x="7507" y="10357"/>
                  <a:pt x="7463" y="10521"/>
                  <a:pt x="7417" y="10567"/>
                </a:cubicBezTo>
                <a:cubicBezTo>
                  <a:pt x="7396" y="10588"/>
                  <a:pt x="7313" y="10693"/>
                  <a:pt x="7293" y="10691"/>
                </a:cubicBezTo>
                <a:cubicBezTo>
                  <a:pt x="7259" y="10687"/>
                  <a:pt x="7240" y="10658"/>
                  <a:pt x="7218" y="10641"/>
                </a:cubicBezTo>
              </a:path>
              <a:path w="4044" h="2060">
                <a:moveTo>
                  <a:pt x="7640" y="9252"/>
                </a:moveTo>
                <a:cubicBezTo>
                  <a:pt x="7689" y="9227"/>
                  <a:pt x="7705" y="9219"/>
                  <a:pt x="7714" y="9178"/>
                </a:cubicBezTo>
                <a:cubicBezTo>
                  <a:pt x="7732" y="9185"/>
                  <a:pt x="7827" y="9215"/>
                  <a:pt x="7838" y="9227"/>
                </a:cubicBezTo>
                <a:cubicBezTo>
                  <a:pt x="7901" y="9295"/>
                  <a:pt x="7905" y="9369"/>
                  <a:pt x="7863" y="9451"/>
                </a:cubicBezTo>
                <a:cubicBezTo>
                  <a:pt x="7845" y="9487"/>
                  <a:pt x="7816" y="9507"/>
                  <a:pt x="7813" y="9550"/>
                </a:cubicBezTo>
                <a:cubicBezTo>
                  <a:pt x="7813" y="9566"/>
                  <a:pt x="7813" y="9583"/>
                  <a:pt x="7813" y="9599"/>
                </a:cubicBezTo>
                <a:cubicBezTo>
                  <a:pt x="7962" y="9599"/>
                  <a:pt x="8111" y="9599"/>
                  <a:pt x="8260" y="9599"/>
                </a:cubicBezTo>
              </a:path>
              <a:path w="4044" h="2060">
                <a:moveTo>
                  <a:pt x="8260" y="9971"/>
                </a:moveTo>
                <a:cubicBezTo>
                  <a:pt x="8358" y="10006"/>
                  <a:pt x="8405" y="10046"/>
                  <a:pt x="8508" y="10046"/>
                </a:cubicBezTo>
              </a:path>
              <a:path w="4044" h="2060">
                <a:moveTo>
                  <a:pt x="8359" y="10344"/>
                </a:moveTo>
                <a:cubicBezTo>
                  <a:pt x="8450" y="10385"/>
                  <a:pt x="8535" y="10462"/>
                  <a:pt x="8632" y="10492"/>
                </a:cubicBezTo>
                <a:cubicBezTo>
                  <a:pt x="8682" y="10492"/>
                  <a:pt x="8698" y="10492"/>
                  <a:pt x="8731" y="104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2000" y="3303720"/>
            <a:ext cx="1839960" cy="760320"/>
          </a:xfrm>
          <a:custGeom>
            <a:avLst/>
            <a:gdLst/>
            <a:ahLst/>
            <a:rect l="l" t="t" r="r" b="b"/>
            <a:pathLst>
              <a:path w="5110" h="2109">
                <a:moveTo>
                  <a:pt x="9748" y="9376"/>
                </a:moveTo>
                <a:cubicBezTo>
                  <a:pt x="9786" y="9320"/>
                  <a:pt x="9781" y="9295"/>
                  <a:pt x="9823" y="9302"/>
                </a:cubicBezTo>
                <a:cubicBezTo>
                  <a:pt x="9791" y="9355"/>
                  <a:pt x="9787" y="9419"/>
                  <a:pt x="9748" y="9475"/>
                </a:cubicBezTo>
                <a:cubicBezTo>
                  <a:pt x="9666" y="9594"/>
                  <a:pt x="9583" y="9712"/>
                  <a:pt x="9525" y="9847"/>
                </a:cubicBezTo>
                <a:cubicBezTo>
                  <a:pt x="9473" y="9970"/>
                  <a:pt x="9455" y="10088"/>
                  <a:pt x="9451" y="10220"/>
                </a:cubicBezTo>
                <a:cubicBezTo>
                  <a:pt x="9447" y="10331"/>
                  <a:pt x="9477" y="10482"/>
                  <a:pt x="9550" y="10567"/>
                </a:cubicBezTo>
                <a:cubicBezTo>
                  <a:pt x="9561" y="10580"/>
                  <a:pt x="9627" y="10588"/>
                  <a:pt x="9649" y="10592"/>
                </a:cubicBezTo>
              </a:path>
              <a:path w="5110" h="2109">
                <a:moveTo>
                  <a:pt x="9922" y="9847"/>
                </a:moveTo>
                <a:cubicBezTo>
                  <a:pt x="9970" y="9981"/>
                  <a:pt x="10009" y="10188"/>
                  <a:pt x="10120" y="10294"/>
                </a:cubicBezTo>
                <a:cubicBezTo>
                  <a:pt x="10201" y="10371"/>
                  <a:pt x="10264" y="10386"/>
                  <a:pt x="10344" y="10443"/>
                </a:cubicBezTo>
                <a:cubicBezTo>
                  <a:pt x="10423" y="10500"/>
                  <a:pt x="10408" y="10517"/>
                  <a:pt x="10468" y="10443"/>
                </a:cubicBezTo>
                <a:cubicBezTo>
                  <a:pt x="10476" y="10435"/>
                  <a:pt x="10484" y="10426"/>
                  <a:pt x="10492" y="10418"/>
                </a:cubicBezTo>
              </a:path>
              <a:path w="5110" h="2109">
                <a:moveTo>
                  <a:pt x="10344" y="9847"/>
                </a:moveTo>
                <a:cubicBezTo>
                  <a:pt x="10257" y="9934"/>
                  <a:pt x="10171" y="10024"/>
                  <a:pt x="10096" y="10120"/>
                </a:cubicBezTo>
                <a:cubicBezTo>
                  <a:pt x="10037" y="10196"/>
                  <a:pt x="9973" y="10287"/>
                  <a:pt x="9922" y="10368"/>
                </a:cubicBezTo>
                <a:cubicBezTo>
                  <a:pt x="9895" y="10410"/>
                  <a:pt x="9872" y="10449"/>
                  <a:pt x="9847" y="10492"/>
                </a:cubicBezTo>
              </a:path>
              <a:path w="5110" h="2109">
                <a:moveTo>
                  <a:pt x="10716" y="9971"/>
                </a:moveTo>
                <a:cubicBezTo>
                  <a:pt x="10700" y="10096"/>
                  <a:pt x="10674" y="10179"/>
                  <a:pt x="10716" y="10294"/>
                </a:cubicBezTo>
                <a:cubicBezTo>
                  <a:pt x="10743" y="10368"/>
                  <a:pt x="10750" y="10357"/>
                  <a:pt x="10790" y="10418"/>
                </a:cubicBezTo>
              </a:path>
              <a:path w="5110" h="2109">
                <a:moveTo>
                  <a:pt x="10542" y="10046"/>
                </a:moveTo>
                <a:cubicBezTo>
                  <a:pt x="10620" y="10046"/>
                  <a:pt x="10690" y="10063"/>
                  <a:pt x="10765" y="10071"/>
                </a:cubicBezTo>
                <a:cubicBezTo>
                  <a:pt x="10840" y="10071"/>
                  <a:pt x="10864" y="10071"/>
                  <a:pt x="10914" y="10071"/>
                </a:cubicBezTo>
              </a:path>
              <a:path w="5110" h="2109">
                <a:moveTo>
                  <a:pt x="11286" y="9971"/>
                </a:moveTo>
                <a:cubicBezTo>
                  <a:pt x="11264" y="10046"/>
                  <a:pt x="11240" y="10117"/>
                  <a:pt x="11237" y="10195"/>
                </a:cubicBezTo>
                <a:cubicBezTo>
                  <a:pt x="11235" y="10243"/>
                  <a:pt x="11221" y="10334"/>
                  <a:pt x="11261" y="10368"/>
                </a:cubicBezTo>
                <a:cubicBezTo>
                  <a:pt x="11290" y="10392"/>
                  <a:pt x="11386" y="10451"/>
                  <a:pt x="11435" y="10418"/>
                </a:cubicBezTo>
                <a:cubicBezTo>
                  <a:pt x="11476" y="10377"/>
                  <a:pt x="11484" y="10369"/>
                  <a:pt x="11509" y="10344"/>
                </a:cubicBezTo>
              </a:path>
              <a:path w="5110" h="2109">
                <a:moveTo>
                  <a:pt x="11609" y="10046"/>
                </a:moveTo>
                <a:cubicBezTo>
                  <a:pt x="11609" y="10021"/>
                  <a:pt x="11609" y="9996"/>
                  <a:pt x="11609" y="9971"/>
                </a:cubicBezTo>
                <a:cubicBezTo>
                  <a:pt x="11594" y="9995"/>
                  <a:pt x="11565" y="10061"/>
                  <a:pt x="11559" y="10120"/>
                </a:cubicBezTo>
                <a:cubicBezTo>
                  <a:pt x="11540" y="10320"/>
                  <a:pt x="11570" y="10519"/>
                  <a:pt x="11584" y="10716"/>
                </a:cubicBezTo>
                <a:cubicBezTo>
                  <a:pt x="11594" y="10854"/>
                  <a:pt x="11585" y="10983"/>
                  <a:pt x="11534" y="11112"/>
                </a:cubicBezTo>
                <a:cubicBezTo>
                  <a:pt x="11501" y="11196"/>
                  <a:pt x="11422" y="11265"/>
                  <a:pt x="11336" y="11286"/>
                </a:cubicBezTo>
                <a:cubicBezTo>
                  <a:pt x="11273" y="11301"/>
                  <a:pt x="11139" y="11281"/>
                  <a:pt x="11088" y="11237"/>
                </a:cubicBezTo>
                <a:cubicBezTo>
                  <a:pt x="11014" y="11173"/>
                  <a:pt x="11008" y="11047"/>
                  <a:pt x="10988" y="10964"/>
                </a:cubicBezTo>
              </a:path>
              <a:path w="5110" h="2109">
                <a:moveTo>
                  <a:pt x="12105" y="9327"/>
                </a:moveTo>
                <a:cubicBezTo>
                  <a:pt x="12061" y="9426"/>
                  <a:pt x="12015" y="9499"/>
                  <a:pt x="11981" y="9599"/>
                </a:cubicBezTo>
                <a:cubicBezTo>
                  <a:pt x="11939" y="9721"/>
                  <a:pt x="11886" y="9842"/>
                  <a:pt x="11881" y="9971"/>
                </a:cubicBezTo>
                <a:cubicBezTo>
                  <a:pt x="11877" y="10083"/>
                  <a:pt x="11888" y="10197"/>
                  <a:pt x="11906" y="10294"/>
                </a:cubicBezTo>
                <a:cubicBezTo>
                  <a:pt x="11906" y="10336"/>
                  <a:pt x="11898" y="10352"/>
                  <a:pt x="11931" y="10344"/>
                </a:cubicBezTo>
              </a:path>
              <a:path w="5110" h="2109">
                <a:moveTo>
                  <a:pt x="11410" y="9302"/>
                </a:moveTo>
                <a:cubicBezTo>
                  <a:pt x="11483" y="9394"/>
                  <a:pt x="11568" y="9489"/>
                  <a:pt x="11609" y="9599"/>
                </a:cubicBezTo>
                <a:cubicBezTo>
                  <a:pt x="11652" y="9715"/>
                  <a:pt x="11671" y="9852"/>
                  <a:pt x="11683" y="9971"/>
                </a:cubicBezTo>
                <a:cubicBezTo>
                  <a:pt x="11694" y="10073"/>
                  <a:pt x="11644" y="10171"/>
                  <a:pt x="11633" y="10269"/>
                </a:cubicBezTo>
                <a:cubicBezTo>
                  <a:pt x="11627" y="10324"/>
                  <a:pt x="11620" y="10451"/>
                  <a:pt x="11584" y="10492"/>
                </a:cubicBezTo>
                <a:cubicBezTo>
                  <a:pt x="11576" y="10492"/>
                  <a:pt x="11567" y="10492"/>
                  <a:pt x="11559" y="10492"/>
                </a:cubicBezTo>
              </a:path>
              <a:path w="5110" h="2109">
                <a:moveTo>
                  <a:pt x="12229" y="9773"/>
                </a:moveTo>
                <a:cubicBezTo>
                  <a:pt x="12287" y="9905"/>
                  <a:pt x="12327" y="9971"/>
                  <a:pt x="12427" y="10071"/>
                </a:cubicBezTo>
                <a:cubicBezTo>
                  <a:pt x="12491" y="10135"/>
                  <a:pt x="12580" y="10223"/>
                  <a:pt x="12626" y="10269"/>
                </a:cubicBezTo>
                <a:cubicBezTo>
                  <a:pt x="12703" y="10347"/>
                  <a:pt x="12658" y="10344"/>
                  <a:pt x="12750" y="10344"/>
                </a:cubicBezTo>
              </a:path>
              <a:path w="5110" h="2109">
                <a:moveTo>
                  <a:pt x="12526" y="9748"/>
                </a:moveTo>
                <a:cubicBezTo>
                  <a:pt x="12431" y="9850"/>
                  <a:pt x="12369" y="9931"/>
                  <a:pt x="12303" y="10046"/>
                </a:cubicBezTo>
                <a:cubicBezTo>
                  <a:pt x="12255" y="10129"/>
                  <a:pt x="12229" y="10175"/>
                  <a:pt x="12229" y="10269"/>
                </a:cubicBezTo>
              </a:path>
              <a:path w="5110" h="2109">
                <a:moveTo>
                  <a:pt x="12973" y="9699"/>
                </a:moveTo>
                <a:cubicBezTo>
                  <a:pt x="12992" y="9813"/>
                  <a:pt x="12997" y="9935"/>
                  <a:pt x="13022" y="10046"/>
                </a:cubicBezTo>
                <a:cubicBezTo>
                  <a:pt x="13036" y="10107"/>
                  <a:pt x="13060" y="10161"/>
                  <a:pt x="13072" y="10220"/>
                </a:cubicBezTo>
              </a:path>
              <a:path w="5110" h="2109">
                <a:moveTo>
                  <a:pt x="12824" y="9971"/>
                </a:moveTo>
                <a:cubicBezTo>
                  <a:pt x="12956" y="9971"/>
                  <a:pt x="13089" y="9971"/>
                  <a:pt x="13221" y="9971"/>
                </a:cubicBezTo>
              </a:path>
              <a:path w="5110" h="2109">
                <a:moveTo>
                  <a:pt x="13444" y="9897"/>
                </a:moveTo>
                <a:cubicBezTo>
                  <a:pt x="13424" y="9975"/>
                  <a:pt x="13395" y="10047"/>
                  <a:pt x="13444" y="10120"/>
                </a:cubicBezTo>
                <a:cubicBezTo>
                  <a:pt x="13497" y="10198"/>
                  <a:pt x="13527" y="10180"/>
                  <a:pt x="13593" y="10220"/>
                </a:cubicBezTo>
                <a:cubicBezTo>
                  <a:pt x="13644" y="10251"/>
                  <a:pt x="13717" y="10262"/>
                  <a:pt x="13767" y="10195"/>
                </a:cubicBezTo>
                <a:cubicBezTo>
                  <a:pt x="13807" y="10142"/>
                  <a:pt x="13865" y="10056"/>
                  <a:pt x="13891" y="9996"/>
                </a:cubicBezTo>
                <a:cubicBezTo>
                  <a:pt x="13901" y="9973"/>
                  <a:pt x="13950" y="9818"/>
                  <a:pt x="13891" y="9971"/>
                </a:cubicBezTo>
                <a:cubicBezTo>
                  <a:pt x="13861" y="10049"/>
                  <a:pt x="13866" y="10127"/>
                  <a:pt x="13866" y="10220"/>
                </a:cubicBezTo>
                <a:cubicBezTo>
                  <a:pt x="13866" y="10421"/>
                  <a:pt x="13859" y="10619"/>
                  <a:pt x="13841" y="10815"/>
                </a:cubicBezTo>
                <a:cubicBezTo>
                  <a:pt x="13834" y="10892"/>
                  <a:pt x="13806" y="11021"/>
                  <a:pt x="13717" y="11063"/>
                </a:cubicBezTo>
                <a:cubicBezTo>
                  <a:pt x="13667" y="11086"/>
                  <a:pt x="13554" y="11050"/>
                  <a:pt x="13519" y="11013"/>
                </a:cubicBezTo>
                <a:cubicBezTo>
                  <a:pt x="13447" y="10936"/>
                  <a:pt x="13472" y="10776"/>
                  <a:pt x="13469" y="10691"/>
                </a:cubicBezTo>
              </a:path>
              <a:path w="5110" h="2109">
                <a:moveTo>
                  <a:pt x="14064" y="9178"/>
                </a:moveTo>
                <a:cubicBezTo>
                  <a:pt x="14219" y="9384"/>
                  <a:pt x="14370" y="9568"/>
                  <a:pt x="14436" y="9823"/>
                </a:cubicBezTo>
                <a:cubicBezTo>
                  <a:pt x="14489" y="10028"/>
                  <a:pt x="14546" y="10232"/>
                  <a:pt x="14560" y="10443"/>
                </a:cubicBezTo>
                <a:cubicBezTo>
                  <a:pt x="14565" y="10522"/>
                  <a:pt x="14585" y="10682"/>
                  <a:pt x="14511" y="10740"/>
                </a:cubicBezTo>
                <a:cubicBezTo>
                  <a:pt x="14494" y="10748"/>
                  <a:pt x="14478" y="10757"/>
                  <a:pt x="14461" y="107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0080" y="3919680"/>
            <a:ext cx="2367000" cy="590400"/>
          </a:xfrm>
          <a:custGeom>
            <a:avLst/>
            <a:gdLst/>
            <a:ahLst/>
            <a:rect l="l" t="t" r="r" b="b"/>
            <a:pathLst>
              <a:path w="6574" h="1638">
                <a:moveTo>
                  <a:pt x="9277" y="11311"/>
                </a:moveTo>
                <a:cubicBezTo>
                  <a:pt x="9303" y="11420"/>
                  <a:pt x="9337" y="11540"/>
                  <a:pt x="9401" y="11633"/>
                </a:cubicBezTo>
                <a:cubicBezTo>
                  <a:pt x="9460" y="11719"/>
                  <a:pt x="9541" y="11795"/>
                  <a:pt x="9624" y="11857"/>
                </a:cubicBezTo>
                <a:cubicBezTo>
                  <a:pt x="9683" y="11901"/>
                  <a:pt x="9752" y="11942"/>
                  <a:pt x="9823" y="11956"/>
                </a:cubicBezTo>
              </a:path>
              <a:path w="6574" h="1638">
                <a:moveTo>
                  <a:pt x="9599" y="11261"/>
                </a:moveTo>
                <a:cubicBezTo>
                  <a:pt x="9514" y="11412"/>
                  <a:pt x="9432" y="11558"/>
                  <a:pt x="9351" y="11708"/>
                </a:cubicBezTo>
                <a:cubicBezTo>
                  <a:pt x="9344" y="11721"/>
                  <a:pt x="9269" y="11881"/>
                  <a:pt x="9277" y="11881"/>
                </a:cubicBezTo>
                <a:cubicBezTo>
                  <a:pt x="9285" y="11873"/>
                  <a:pt x="9294" y="11865"/>
                  <a:pt x="9302" y="11857"/>
                </a:cubicBezTo>
              </a:path>
              <a:path w="6574" h="1638">
                <a:moveTo>
                  <a:pt x="9798" y="10988"/>
                </a:moveTo>
                <a:cubicBezTo>
                  <a:pt x="9851" y="10965"/>
                  <a:pt x="9973" y="10885"/>
                  <a:pt x="9996" y="10988"/>
                </a:cubicBezTo>
                <a:cubicBezTo>
                  <a:pt x="10006" y="11033"/>
                  <a:pt x="10001" y="11100"/>
                  <a:pt x="9971" y="11137"/>
                </a:cubicBezTo>
                <a:cubicBezTo>
                  <a:pt x="9897" y="11228"/>
                  <a:pt x="9897" y="11195"/>
                  <a:pt x="9897" y="11286"/>
                </a:cubicBezTo>
                <a:cubicBezTo>
                  <a:pt x="9897" y="11349"/>
                  <a:pt x="9977" y="11336"/>
                  <a:pt x="10021" y="11336"/>
                </a:cubicBezTo>
                <a:cubicBezTo>
                  <a:pt x="10038" y="11336"/>
                  <a:pt x="10054" y="11336"/>
                  <a:pt x="10071" y="11336"/>
                </a:cubicBezTo>
              </a:path>
              <a:path w="6574" h="1638">
                <a:moveTo>
                  <a:pt x="10468" y="11261"/>
                </a:moveTo>
                <a:cubicBezTo>
                  <a:pt x="10463" y="11341"/>
                  <a:pt x="10428" y="11574"/>
                  <a:pt x="10468" y="11683"/>
                </a:cubicBezTo>
                <a:cubicBezTo>
                  <a:pt x="10476" y="11691"/>
                  <a:pt x="10484" y="11700"/>
                  <a:pt x="10492" y="11708"/>
                </a:cubicBezTo>
              </a:path>
              <a:path w="6574" h="1638">
                <a:moveTo>
                  <a:pt x="10244" y="11435"/>
                </a:moveTo>
                <a:cubicBezTo>
                  <a:pt x="10368" y="11435"/>
                  <a:pt x="10492" y="11435"/>
                  <a:pt x="10616" y="11435"/>
                </a:cubicBezTo>
              </a:path>
              <a:path w="6574" h="1638">
                <a:moveTo>
                  <a:pt x="11038" y="11435"/>
                </a:moveTo>
                <a:cubicBezTo>
                  <a:pt x="11063" y="11523"/>
                  <a:pt x="11089" y="11604"/>
                  <a:pt x="11137" y="11683"/>
                </a:cubicBezTo>
                <a:cubicBezTo>
                  <a:pt x="11205" y="11794"/>
                  <a:pt x="11293" y="11860"/>
                  <a:pt x="11410" y="11881"/>
                </a:cubicBezTo>
              </a:path>
              <a:path w="6574" h="1638">
                <a:moveTo>
                  <a:pt x="11311" y="11361"/>
                </a:moveTo>
                <a:cubicBezTo>
                  <a:pt x="11190" y="11429"/>
                  <a:pt x="11151" y="11482"/>
                  <a:pt x="11063" y="11584"/>
                </a:cubicBezTo>
                <a:cubicBezTo>
                  <a:pt x="11021" y="11633"/>
                  <a:pt x="10963" y="11698"/>
                  <a:pt x="10939" y="11757"/>
                </a:cubicBezTo>
                <a:cubicBezTo>
                  <a:pt x="10924" y="11794"/>
                  <a:pt x="10941" y="11799"/>
                  <a:pt x="10964" y="11807"/>
                </a:cubicBezTo>
              </a:path>
              <a:path w="6574" h="1638">
                <a:moveTo>
                  <a:pt x="11584" y="11584"/>
                </a:moveTo>
                <a:cubicBezTo>
                  <a:pt x="11584" y="11683"/>
                  <a:pt x="11568" y="11716"/>
                  <a:pt x="11633" y="11782"/>
                </a:cubicBezTo>
                <a:cubicBezTo>
                  <a:pt x="11675" y="11824"/>
                  <a:pt x="11735" y="11814"/>
                  <a:pt x="11782" y="11782"/>
                </a:cubicBezTo>
                <a:cubicBezTo>
                  <a:pt x="11790" y="11774"/>
                  <a:pt x="11799" y="11765"/>
                  <a:pt x="11807" y="11757"/>
                </a:cubicBezTo>
              </a:path>
              <a:path w="6574" h="1638">
                <a:moveTo>
                  <a:pt x="11956" y="11559"/>
                </a:moveTo>
                <a:cubicBezTo>
                  <a:pt x="11992" y="11475"/>
                  <a:pt x="11968" y="11478"/>
                  <a:pt x="11956" y="11534"/>
                </a:cubicBezTo>
                <a:cubicBezTo>
                  <a:pt x="11938" y="11616"/>
                  <a:pt x="11947" y="11699"/>
                  <a:pt x="11931" y="11782"/>
                </a:cubicBezTo>
                <a:cubicBezTo>
                  <a:pt x="11909" y="11901"/>
                  <a:pt x="11936" y="12039"/>
                  <a:pt x="11906" y="12154"/>
                </a:cubicBezTo>
                <a:cubicBezTo>
                  <a:pt x="11890" y="12214"/>
                  <a:pt x="11791" y="12265"/>
                  <a:pt x="11733" y="12278"/>
                </a:cubicBezTo>
                <a:cubicBezTo>
                  <a:pt x="11637" y="12299"/>
                  <a:pt x="11584" y="12237"/>
                  <a:pt x="11534" y="12179"/>
                </a:cubicBezTo>
                <a:cubicBezTo>
                  <a:pt x="11490" y="12134"/>
                  <a:pt x="11474" y="12124"/>
                  <a:pt x="11485" y="12080"/>
                </a:cubicBezTo>
              </a:path>
              <a:path w="6574" h="1638">
                <a:moveTo>
                  <a:pt x="12526" y="11460"/>
                </a:moveTo>
                <a:cubicBezTo>
                  <a:pt x="12526" y="11624"/>
                  <a:pt x="12540" y="11735"/>
                  <a:pt x="12551" y="11881"/>
                </a:cubicBezTo>
                <a:cubicBezTo>
                  <a:pt x="12551" y="11906"/>
                  <a:pt x="12551" y="11914"/>
                  <a:pt x="12576" y="11906"/>
                </a:cubicBezTo>
              </a:path>
              <a:path w="6574" h="1638">
                <a:moveTo>
                  <a:pt x="12278" y="11509"/>
                </a:moveTo>
                <a:cubicBezTo>
                  <a:pt x="12412" y="11522"/>
                  <a:pt x="12520" y="11534"/>
                  <a:pt x="12650" y="11534"/>
                </a:cubicBezTo>
              </a:path>
              <a:path w="6574" h="1638">
                <a:moveTo>
                  <a:pt x="12973" y="11435"/>
                </a:moveTo>
                <a:cubicBezTo>
                  <a:pt x="13029" y="11536"/>
                  <a:pt x="13067" y="11649"/>
                  <a:pt x="13146" y="11733"/>
                </a:cubicBezTo>
                <a:cubicBezTo>
                  <a:pt x="13233" y="11825"/>
                  <a:pt x="13280" y="11853"/>
                  <a:pt x="13395" y="11832"/>
                </a:cubicBezTo>
              </a:path>
              <a:path w="6574" h="1638">
                <a:moveTo>
                  <a:pt x="13246" y="11336"/>
                </a:moveTo>
                <a:cubicBezTo>
                  <a:pt x="13137" y="11429"/>
                  <a:pt x="13099" y="11501"/>
                  <a:pt x="13022" y="11609"/>
                </a:cubicBezTo>
                <a:cubicBezTo>
                  <a:pt x="12980" y="11669"/>
                  <a:pt x="12936" y="11732"/>
                  <a:pt x="12923" y="11807"/>
                </a:cubicBezTo>
                <a:cubicBezTo>
                  <a:pt x="12923" y="11849"/>
                  <a:pt x="12915" y="11865"/>
                  <a:pt x="12948" y="11857"/>
                </a:cubicBezTo>
              </a:path>
              <a:path w="6574" h="1638">
                <a:moveTo>
                  <a:pt x="13469" y="11509"/>
                </a:moveTo>
                <a:cubicBezTo>
                  <a:pt x="13482" y="11556"/>
                  <a:pt x="13485" y="11661"/>
                  <a:pt x="13543" y="11683"/>
                </a:cubicBezTo>
                <a:cubicBezTo>
                  <a:pt x="13640" y="11720"/>
                  <a:pt x="13690" y="11716"/>
                  <a:pt x="13767" y="11658"/>
                </a:cubicBezTo>
                <a:cubicBezTo>
                  <a:pt x="13819" y="11619"/>
                  <a:pt x="13808" y="11558"/>
                  <a:pt x="13841" y="11509"/>
                </a:cubicBezTo>
                <a:cubicBezTo>
                  <a:pt x="13862" y="11478"/>
                  <a:pt x="13868" y="11465"/>
                  <a:pt x="13891" y="11435"/>
                </a:cubicBezTo>
                <a:cubicBezTo>
                  <a:pt x="13891" y="11498"/>
                  <a:pt x="13872" y="11548"/>
                  <a:pt x="13866" y="11609"/>
                </a:cubicBezTo>
                <a:cubicBezTo>
                  <a:pt x="13850" y="11774"/>
                  <a:pt x="13857" y="11942"/>
                  <a:pt x="13841" y="12105"/>
                </a:cubicBezTo>
                <a:cubicBezTo>
                  <a:pt x="13835" y="12168"/>
                  <a:pt x="13840" y="12303"/>
                  <a:pt x="13791" y="12353"/>
                </a:cubicBezTo>
                <a:cubicBezTo>
                  <a:pt x="13740" y="12405"/>
                  <a:pt x="13697" y="12406"/>
                  <a:pt x="13643" y="12378"/>
                </a:cubicBezTo>
                <a:cubicBezTo>
                  <a:pt x="13552" y="12330"/>
                  <a:pt x="13568" y="12274"/>
                  <a:pt x="13568" y="12179"/>
                </a:cubicBezTo>
                <a:cubicBezTo>
                  <a:pt x="13568" y="12154"/>
                  <a:pt x="13568" y="12130"/>
                  <a:pt x="13568" y="12105"/>
                </a:cubicBezTo>
              </a:path>
              <a:path w="6574" h="1638">
                <a:moveTo>
                  <a:pt x="14288" y="11485"/>
                </a:moveTo>
                <a:cubicBezTo>
                  <a:pt x="14308" y="11632"/>
                  <a:pt x="14315" y="11731"/>
                  <a:pt x="14362" y="11857"/>
                </a:cubicBezTo>
              </a:path>
              <a:path w="6574" h="1638">
                <a:moveTo>
                  <a:pt x="14163" y="11559"/>
                </a:moveTo>
                <a:cubicBezTo>
                  <a:pt x="14268" y="11559"/>
                  <a:pt x="14364" y="11567"/>
                  <a:pt x="14461" y="11534"/>
                </a:cubicBezTo>
              </a:path>
              <a:path w="6574" h="1638">
                <a:moveTo>
                  <a:pt x="14660" y="11385"/>
                </a:moveTo>
                <a:cubicBezTo>
                  <a:pt x="14660" y="11462"/>
                  <a:pt x="14640" y="11595"/>
                  <a:pt x="14709" y="11658"/>
                </a:cubicBezTo>
                <a:cubicBezTo>
                  <a:pt x="14735" y="11682"/>
                  <a:pt x="14847" y="11743"/>
                  <a:pt x="14883" y="11733"/>
                </a:cubicBezTo>
                <a:cubicBezTo>
                  <a:pt x="14948" y="11715"/>
                  <a:pt x="14991" y="11680"/>
                  <a:pt x="15007" y="11609"/>
                </a:cubicBezTo>
                <a:cubicBezTo>
                  <a:pt x="15022" y="11542"/>
                  <a:pt x="15032" y="11481"/>
                  <a:pt x="15032" y="11410"/>
                </a:cubicBezTo>
                <a:cubicBezTo>
                  <a:pt x="15032" y="11366"/>
                  <a:pt x="15035" y="11352"/>
                  <a:pt x="15007" y="11336"/>
                </a:cubicBezTo>
                <a:cubicBezTo>
                  <a:pt x="14994" y="11400"/>
                  <a:pt x="14965" y="11467"/>
                  <a:pt x="14957" y="11534"/>
                </a:cubicBezTo>
                <a:cubicBezTo>
                  <a:pt x="14929" y="11779"/>
                  <a:pt x="14959" y="12035"/>
                  <a:pt x="14932" y="12278"/>
                </a:cubicBezTo>
                <a:cubicBezTo>
                  <a:pt x="14922" y="12371"/>
                  <a:pt x="14890" y="12498"/>
                  <a:pt x="14784" y="12526"/>
                </a:cubicBezTo>
                <a:cubicBezTo>
                  <a:pt x="14767" y="12526"/>
                  <a:pt x="14751" y="12526"/>
                  <a:pt x="14734" y="12526"/>
                </a:cubicBezTo>
                <a:cubicBezTo>
                  <a:pt x="14690" y="12440"/>
                  <a:pt x="14663" y="12376"/>
                  <a:pt x="14660" y="12278"/>
                </a:cubicBezTo>
                <a:cubicBezTo>
                  <a:pt x="14660" y="12170"/>
                  <a:pt x="14662" y="12128"/>
                  <a:pt x="14684" y="12055"/>
                </a:cubicBezTo>
              </a:path>
              <a:path w="6574" h="1638">
                <a:moveTo>
                  <a:pt x="15131" y="10889"/>
                </a:moveTo>
                <a:cubicBezTo>
                  <a:pt x="15319" y="10932"/>
                  <a:pt x="15413" y="10925"/>
                  <a:pt x="15429" y="11137"/>
                </a:cubicBezTo>
                <a:cubicBezTo>
                  <a:pt x="15435" y="11217"/>
                  <a:pt x="15398" y="11246"/>
                  <a:pt x="15379" y="11311"/>
                </a:cubicBezTo>
                <a:cubicBezTo>
                  <a:pt x="15361" y="11371"/>
                  <a:pt x="15475" y="11397"/>
                  <a:pt x="15503" y="11410"/>
                </a:cubicBezTo>
                <a:cubicBezTo>
                  <a:pt x="15612" y="11459"/>
                  <a:pt x="15664" y="11470"/>
                  <a:pt x="15776" y="11460"/>
                </a:cubicBezTo>
                <a:cubicBezTo>
                  <a:pt x="15817" y="11460"/>
                  <a:pt x="15825" y="11460"/>
                  <a:pt x="15850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11760" y="4446720"/>
            <a:ext cx="1812600" cy="617400"/>
          </a:xfrm>
          <a:custGeom>
            <a:avLst/>
            <a:gdLst/>
            <a:ahLst/>
            <a:rect l="l" t="t" r="r" b="b"/>
            <a:pathLst>
              <a:path w="5037" h="1712">
                <a:moveTo>
                  <a:pt x="10864" y="12526"/>
                </a:moveTo>
                <a:cubicBezTo>
                  <a:pt x="10901" y="12636"/>
                  <a:pt x="10931" y="12748"/>
                  <a:pt x="10988" y="12849"/>
                </a:cubicBezTo>
                <a:cubicBezTo>
                  <a:pt x="11049" y="12957"/>
                  <a:pt x="11147" y="13088"/>
                  <a:pt x="11237" y="13171"/>
                </a:cubicBezTo>
                <a:cubicBezTo>
                  <a:pt x="11293" y="13223"/>
                  <a:pt x="11400" y="13304"/>
                  <a:pt x="11485" y="13271"/>
                </a:cubicBezTo>
                <a:cubicBezTo>
                  <a:pt x="11525" y="13230"/>
                  <a:pt x="11538" y="13199"/>
                  <a:pt x="11534" y="13146"/>
                </a:cubicBezTo>
              </a:path>
              <a:path w="5037" h="1712">
                <a:moveTo>
                  <a:pt x="11187" y="12650"/>
                </a:moveTo>
                <a:cubicBezTo>
                  <a:pt x="11106" y="12821"/>
                  <a:pt x="10993" y="13012"/>
                  <a:pt x="10939" y="13196"/>
                </a:cubicBezTo>
                <a:cubicBezTo>
                  <a:pt x="10916" y="13276"/>
                  <a:pt x="10938" y="13240"/>
                  <a:pt x="10988" y="13146"/>
                </a:cubicBezTo>
              </a:path>
              <a:path w="5037" h="1712">
                <a:moveTo>
                  <a:pt x="11485" y="12353"/>
                </a:moveTo>
                <a:cubicBezTo>
                  <a:pt x="11587" y="12361"/>
                  <a:pt x="11625" y="12347"/>
                  <a:pt x="11633" y="12452"/>
                </a:cubicBezTo>
                <a:cubicBezTo>
                  <a:pt x="11636" y="12489"/>
                  <a:pt x="11601" y="12550"/>
                  <a:pt x="11584" y="12576"/>
                </a:cubicBezTo>
                <a:cubicBezTo>
                  <a:pt x="11567" y="12601"/>
                  <a:pt x="11529" y="12653"/>
                  <a:pt x="11584" y="12675"/>
                </a:cubicBezTo>
                <a:cubicBezTo>
                  <a:pt x="11662" y="12706"/>
                  <a:pt x="11727" y="12700"/>
                  <a:pt x="11807" y="12700"/>
                </a:cubicBezTo>
              </a:path>
              <a:path w="5037" h="1712">
                <a:moveTo>
                  <a:pt x="12129" y="12601"/>
                </a:moveTo>
                <a:cubicBezTo>
                  <a:pt x="12116" y="12690"/>
                  <a:pt x="12053" y="12895"/>
                  <a:pt x="12080" y="12998"/>
                </a:cubicBezTo>
                <a:cubicBezTo>
                  <a:pt x="12092" y="13043"/>
                  <a:pt x="12106" y="13081"/>
                  <a:pt x="12129" y="13097"/>
                </a:cubicBezTo>
              </a:path>
              <a:path w="5037" h="1712">
                <a:moveTo>
                  <a:pt x="11906" y="12874"/>
                </a:moveTo>
                <a:cubicBezTo>
                  <a:pt x="12008" y="12853"/>
                  <a:pt x="12109" y="12856"/>
                  <a:pt x="12204" y="12824"/>
                </a:cubicBezTo>
              </a:path>
              <a:path w="5037" h="1712">
                <a:moveTo>
                  <a:pt x="12502" y="12601"/>
                </a:moveTo>
                <a:cubicBezTo>
                  <a:pt x="12533" y="12553"/>
                  <a:pt x="12556" y="12527"/>
                  <a:pt x="12626" y="12551"/>
                </a:cubicBezTo>
                <a:cubicBezTo>
                  <a:pt x="12720" y="12583"/>
                  <a:pt x="12700" y="12670"/>
                  <a:pt x="12700" y="12750"/>
                </a:cubicBezTo>
                <a:cubicBezTo>
                  <a:pt x="12700" y="12835"/>
                  <a:pt x="12621" y="12881"/>
                  <a:pt x="12576" y="12948"/>
                </a:cubicBezTo>
                <a:cubicBezTo>
                  <a:pt x="12549" y="12988"/>
                  <a:pt x="12504" y="13069"/>
                  <a:pt x="12526" y="13122"/>
                </a:cubicBezTo>
                <a:cubicBezTo>
                  <a:pt x="12549" y="13175"/>
                  <a:pt x="12653" y="13193"/>
                  <a:pt x="12700" y="13196"/>
                </a:cubicBezTo>
                <a:cubicBezTo>
                  <a:pt x="12757" y="13196"/>
                  <a:pt x="12778" y="13191"/>
                  <a:pt x="12799" y="13146"/>
                </a:cubicBezTo>
              </a:path>
              <a:path w="5037" h="1712">
                <a:moveTo>
                  <a:pt x="12948" y="12799"/>
                </a:moveTo>
                <a:cubicBezTo>
                  <a:pt x="12996" y="12938"/>
                  <a:pt x="13028" y="13049"/>
                  <a:pt x="13146" y="13146"/>
                </a:cubicBezTo>
                <a:cubicBezTo>
                  <a:pt x="13211" y="13200"/>
                  <a:pt x="13269" y="13229"/>
                  <a:pt x="13345" y="13246"/>
                </a:cubicBezTo>
              </a:path>
              <a:path w="5037" h="1712">
                <a:moveTo>
                  <a:pt x="13171" y="12700"/>
                </a:moveTo>
                <a:cubicBezTo>
                  <a:pt x="13081" y="12797"/>
                  <a:pt x="13008" y="12899"/>
                  <a:pt x="12923" y="12998"/>
                </a:cubicBezTo>
                <a:cubicBezTo>
                  <a:pt x="12866" y="13065"/>
                  <a:pt x="12826" y="13092"/>
                  <a:pt x="12874" y="13171"/>
                </a:cubicBezTo>
              </a:path>
              <a:path w="5037" h="1712">
                <a:moveTo>
                  <a:pt x="13419" y="12849"/>
                </a:moveTo>
                <a:cubicBezTo>
                  <a:pt x="13419" y="12998"/>
                  <a:pt x="13392" y="13038"/>
                  <a:pt x="13494" y="13122"/>
                </a:cubicBezTo>
                <a:cubicBezTo>
                  <a:pt x="13539" y="13159"/>
                  <a:pt x="13604" y="13195"/>
                  <a:pt x="13667" y="13171"/>
                </a:cubicBezTo>
                <a:cubicBezTo>
                  <a:pt x="13757" y="13136"/>
                  <a:pt x="13755" y="13053"/>
                  <a:pt x="13791" y="12973"/>
                </a:cubicBezTo>
                <a:cubicBezTo>
                  <a:pt x="13800" y="12953"/>
                  <a:pt x="13856" y="12843"/>
                  <a:pt x="13841" y="12824"/>
                </a:cubicBezTo>
                <a:cubicBezTo>
                  <a:pt x="13833" y="12824"/>
                  <a:pt x="13824" y="12824"/>
                  <a:pt x="13816" y="12824"/>
                </a:cubicBezTo>
                <a:cubicBezTo>
                  <a:pt x="13803" y="12877"/>
                  <a:pt x="13773" y="12939"/>
                  <a:pt x="13767" y="12998"/>
                </a:cubicBezTo>
                <a:cubicBezTo>
                  <a:pt x="13750" y="13171"/>
                  <a:pt x="13761" y="13348"/>
                  <a:pt x="13742" y="13519"/>
                </a:cubicBezTo>
                <a:cubicBezTo>
                  <a:pt x="13733" y="13603"/>
                  <a:pt x="13725" y="13651"/>
                  <a:pt x="13667" y="13717"/>
                </a:cubicBezTo>
                <a:cubicBezTo>
                  <a:pt x="13620" y="13770"/>
                  <a:pt x="13542" y="13729"/>
                  <a:pt x="13494" y="13692"/>
                </a:cubicBezTo>
                <a:cubicBezTo>
                  <a:pt x="13407" y="13625"/>
                  <a:pt x="13392" y="13569"/>
                  <a:pt x="13345" y="13469"/>
                </a:cubicBezTo>
              </a:path>
              <a:path w="5037" h="1712">
                <a:moveTo>
                  <a:pt x="14238" y="12849"/>
                </a:moveTo>
                <a:cubicBezTo>
                  <a:pt x="14249" y="12954"/>
                  <a:pt x="14297" y="13123"/>
                  <a:pt x="14238" y="13221"/>
                </a:cubicBezTo>
              </a:path>
              <a:path w="5037" h="1712">
                <a:moveTo>
                  <a:pt x="14064" y="12948"/>
                </a:moveTo>
                <a:cubicBezTo>
                  <a:pt x="14170" y="12948"/>
                  <a:pt x="14264" y="12956"/>
                  <a:pt x="14362" y="12923"/>
                </a:cubicBezTo>
                <a:cubicBezTo>
                  <a:pt x="14387" y="12915"/>
                  <a:pt x="14411" y="12906"/>
                  <a:pt x="14436" y="12898"/>
                </a:cubicBezTo>
              </a:path>
              <a:path w="5037" h="1712">
                <a:moveTo>
                  <a:pt x="14635" y="12923"/>
                </a:moveTo>
                <a:cubicBezTo>
                  <a:pt x="14640" y="13005"/>
                  <a:pt x="14629" y="13114"/>
                  <a:pt x="14709" y="13171"/>
                </a:cubicBezTo>
                <a:cubicBezTo>
                  <a:pt x="14743" y="13196"/>
                  <a:pt x="14842" y="13217"/>
                  <a:pt x="14883" y="13196"/>
                </a:cubicBezTo>
                <a:cubicBezTo>
                  <a:pt x="14935" y="13170"/>
                  <a:pt x="14977" y="13121"/>
                  <a:pt x="15007" y="13072"/>
                </a:cubicBezTo>
                <a:cubicBezTo>
                  <a:pt x="15025" y="13042"/>
                  <a:pt x="15086" y="12923"/>
                  <a:pt x="15081" y="12898"/>
                </a:cubicBezTo>
                <a:cubicBezTo>
                  <a:pt x="15058" y="12876"/>
                  <a:pt x="15050" y="12871"/>
                  <a:pt x="15056" y="12849"/>
                </a:cubicBezTo>
                <a:cubicBezTo>
                  <a:pt x="14999" y="12890"/>
                  <a:pt x="15002" y="12897"/>
                  <a:pt x="14982" y="12973"/>
                </a:cubicBezTo>
                <a:cubicBezTo>
                  <a:pt x="14937" y="13145"/>
                  <a:pt x="14972" y="13290"/>
                  <a:pt x="14982" y="13469"/>
                </a:cubicBezTo>
                <a:cubicBezTo>
                  <a:pt x="14989" y="13601"/>
                  <a:pt x="14993" y="13740"/>
                  <a:pt x="14957" y="13866"/>
                </a:cubicBezTo>
                <a:cubicBezTo>
                  <a:pt x="14940" y="13926"/>
                  <a:pt x="14903" y="14041"/>
                  <a:pt x="14833" y="14064"/>
                </a:cubicBezTo>
                <a:cubicBezTo>
                  <a:pt x="14763" y="14088"/>
                  <a:pt x="14711" y="14051"/>
                  <a:pt x="14684" y="13990"/>
                </a:cubicBezTo>
                <a:cubicBezTo>
                  <a:pt x="14642" y="13894"/>
                  <a:pt x="14685" y="13813"/>
                  <a:pt x="14709" y="13717"/>
                </a:cubicBezTo>
              </a:path>
              <a:path w="5037" h="1712">
                <a:moveTo>
                  <a:pt x="15304" y="12477"/>
                </a:moveTo>
                <a:cubicBezTo>
                  <a:pt x="15432" y="12464"/>
                  <a:pt x="15526" y="12433"/>
                  <a:pt x="15602" y="12551"/>
                </a:cubicBezTo>
                <a:cubicBezTo>
                  <a:pt x="15635" y="12601"/>
                  <a:pt x="15611" y="12693"/>
                  <a:pt x="15553" y="12725"/>
                </a:cubicBezTo>
                <a:cubicBezTo>
                  <a:pt x="15530" y="12738"/>
                  <a:pt x="15476" y="12750"/>
                  <a:pt x="15503" y="12799"/>
                </a:cubicBezTo>
                <a:cubicBezTo>
                  <a:pt x="15535" y="12856"/>
                  <a:pt x="15598" y="12850"/>
                  <a:pt x="15652" y="12874"/>
                </a:cubicBezTo>
                <a:cubicBezTo>
                  <a:pt x="15763" y="12923"/>
                  <a:pt x="15771" y="12912"/>
                  <a:pt x="15900" y="128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03200" y="4803840"/>
            <a:ext cx="1179720" cy="947520"/>
          </a:xfrm>
          <a:custGeom>
            <a:avLst/>
            <a:gdLst/>
            <a:ahLst/>
            <a:rect l="l" t="t" r="r" b="b"/>
            <a:pathLst>
              <a:path w="3276" h="2630">
                <a:moveTo>
                  <a:pt x="4018" y="13692"/>
                </a:moveTo>
                <a:cubicBezTo>
                  <a:pt x="3982" y="13739"/>
                  <a:pt x="3956" y="13795"/>
                  <a:pt x="3919" y="13841"/>
                </a:cubicBezTo>
                <a:cubicBezTo>
                  <a:pt x="3832" y="13948"/>
                  <a:pt x="3764" y="14064"/>
                  <a:pt x="3696" y="14188"/>
                </a:cubicBezTo>
                <a:cubicBezTo>
                  <a:pt x="3633" y="14304"/>
                  <a:pt x="3602" y="14427"/>
                  <a:pt x="3621" y="14560"/>
                </a:cubicBezTo>
                <a:cubicBezTo>
                  <a:pt x="3642" y="14704"/>
                  <a:pt x="3723" y="14807"/>
                  <a:pt x="3820" y="14908"/>
                </a:cubicBezTo>
                <a:cubicBezTo>
                  <a:pt x="3872" y="14963"/>
                  <a:pt x="3927" y="14977"/>
                  <a:pt x="3994" y="15007"/>
                </a:cubicBezTo>
              </a:path>
              <a:path w="3276" h="2630">
                <a:moveTo>
                  <a:pt x="4192" y="14238"/>
                </a:moveTo>
                <a:cubicBezTo>
                  <a:pt x="4222" y="14371"/>
                  <a:pt x="4270" y="14463"/>
                  <a:pt x="4316" y="14585"/>
                </a:cubicBezTo>
                <a:cubicBezTo>
                  <a:pt x="4366" y="14718"/>
                  <a:pt x="4411" y="14781"/>
                  <a:pt x="4514" y="14883"/>
                </a:cubicBezTo>
                <a:cubicBezTo>
                  <a:pt x="4571" y="14940"/>
                  <a:pt x="4588" y="14948"/>
                  <a:pt x="4663" y="14957"/>
                </a:cubicBezTo>
              </a:path>
              <a:path w="3276" h="2630">
                <a:moveTo>
                  <a:pt x="4564" y="14213"/>
                </a:moveTo>
                <a:cubicBezTo>
                  <a:pt x="4471" y="14297"/>
                  <a:pt x="4451" y="14375"/>
                  <a:pt x="4390" y="14486"/>
                </a:cubicBezTo>
                <a:cubicBezTo>
                  <a:pt x="4340" y="14576"/>
                  <a:pt x="4283" y="14682"/>
                  <a:pt x="4266" y="14784"/>
                </a:cubicBezTo>
                <a:cubicBezTo>
                  <a:pt x="4260" y="14824"/>
                  <a:pt x="4266" y="14889"/>
                  <a:pt x="4266" y="14932"/>
                </a:cubicBezTo>
              </a:path>
              <a:path w="3276" h="2630">
                <a:moveTo>
                  <a:pt x="4936" y="14263"/>
                </a:moveTo>
                <a:cubicBezTo>
                  <a:pt x="4965" y="14397"/>
                  <a:pt x="4941" y="14498"/>
                  <a:pt x="4936" y="14635"/>
                </a:cubicBezTo>
                <a:cubicBezTo>
                  <a:pt x="4934" y="14700"/>
                  <a:pt x="4947" y="14785"/>
                  <a:pt x="4986" y="14833"/>
                </a:cubicBezTo>
                <a:cubicBezTo>
                  <a:pt x="4994" y="14841"/>
                  <a:pt x="5003" y="14850"/>
                  <a:pt x="5011" y="14858"/>
                </a:cubicBezTo>
              </a:path>
              <a:path w="3276" h="2630">
                <a:moveTo>
                  <a:pt x="4837" y="14461"/>
                </a:moveTo>
                <a:cubicBezTo>
                  <a:pt x="4837" y="14445"/>
                  <a:pt x="4837" y="14428"/>
                  <a:pt x="4837" y="14412"/>
                </a:cubicBezTo>
                <a:cubicBezTo>
                  <a:pt x="4918" y="14412"/>
                  <a:pt x="4980" y="14432"/>
                  <a:pt x="5060" y="14436"/>
                </a:cubicBezTo>
                <a:cubicBezTo>
                  <a:pt x="5077" y="14436"/>
                  <a:pt x="5093" y="14436"/>
                  <a:pt x="5110" y="14436"/>
                </a:cubicBezTo>
              </a:path>
              <a:path w="3276" h="2630">
                <a:moveTo>
                  <a:pt x="5333" y="14536"/>
                </a:moveTo>
                <a:cubicBezTo>
                  <a:pt x="5333" y="14639"/>
                  <a:pt x="5338" y="14693"/>
                  <a:pt x="5383" y="14784"/>
                </a:cubicBezTo>
                <a:cubicBezTo>
                  <a:pt x="5421" y="14861"/>
                  <a:pt x="5486" y="14919"/>
                  <a:pt x="5581" y="14908"/>
                </a:cubicBezTo>
                <a:cubicBezTo>
                  <a:pt x="5630" y="14902"/>
                  <a:pt x="5677" y="14876"/>
                  <a:pt x="5705" y="14833"/>
                </a:cubicBezTo>
                <a:cubicBezTo>
                  <a:pt x="5747" y="14768"/>
                  <a:pt x="5786" y="14681"/>
                  <a:pt x="5804" y="14610"/>
                </a:cubicBezTo>
                <a:cubicBezTo>
                  <a:pt x="5814" y="14570"/>
                  <a:pt x="5818" y="14526"/>
                  <a:pt x="5829" y="14486"/>
                </a:cubicBezTo>
                <a:cubicBezTo>
                  <a:pt x="5825" y="14494"/>
                  <a:pt x="5784" y="14573"/>
                  <a:pt x="5779" y="14610"/>
                </a:cubicBezTo>
                <a:cubicBezTo>
                  <a:pt x="5764" y="14729"/>
                  <a:pt x="5794" y="14842"/>
                  <a:pt x="5804" y="14957"/>
                </a:cubicBezTo>
                <a:cubicBezTo>
                  <a:pt x="5817" y="15113"/>
                  <a:pt x="5847" y="15273"/>
                  <a:pt x="5854" y="15429"/>
                </a:cubicBezTo>
                <a:cubicBezTo>
                  <a:pt x="5858" y="15521"/>
                  <a:pt x="5892" y="15805"/>
                  <a:pt x="5829" y="15900"/>
                </a:cubicBezTo>
                <a:cubicBezTo>
                  <a:pt x="5796" y="15950"/>
                  <a:pt x="5693" y="16008"/>
                  <a:pt x="5631" y="15974"/>
                </a:cubicBezTo>
                <a:cubicBezTo>
                  <a:pt x="5551" y="15930"/>
                  <a:pt x="5446" y="15869"/>
                  <a:pt x="5407" y="15776"/>
                </a:cubicBezTo>
                <a:cubicBezTo>
                  <a:pt x="5367" y="15681"/>
                  <a:pt x="5364" y="15578"/>
                  <a:pt x="5358" y="15478"/>
                </a:cubicBezTo>
              </a:path>
              <a:path w="3276" h="2630">
                <a:moveTo>
                  <a:pt x="5804" y="13667"/>
                </a:moveTo>
                <a:cubicBezTo>
                  <a:pt x="5925" y="13835"/>
                  <a:pt x="6065" y="14015"/>
                  <a:pt x="6127" y="14213"/>
                </a:cubicBezTo>
                <a:cubicBezTo>
                  <a:pt x="6187" y="14402"/>
                  <a:pt x="6202" y="14591"/>
                  <a:pt x="6226" y="14784"/>
                </a:cubicBezTo>
                <a:cubicBezTo>
                  <a:pt x="6245" y="14937"/>
                  <a:pt x="6223" y="15032"/>
                  <a:pt x="6176" y="15180"/>
                </a:cubicBezTo>
                <a:cubicBezTo>
                  <a:pt x="6171" y="15194"/>
                  <a:pt x="6118" y="15356"/>
                  <a:pt x="6077" y="15329"/>
                </a:cubicBezTo>
                <a:cubicBezTo>
                  <a:pt x="6040" y="15305"/>
                  <a:pt x="6070" y="15234"/>
                  <a:pt x="6077" y="15205"/>
                </a:cubicBezTo>
              </a:path>
              <a:path w="3276" h="2630">
                <a:moveTo>
                  <a:pt x="6350" y="13345"/>
                </a:moveTo>
                <a:cubicBezTo>
                  <a:pt x="6350" y="13484"/>
                  <a:pt x="6321" y="13664"/>
                  <a:pt x="6375" y="13791"/>
                </a:cubicBezTo>
                <a:cubicBezTo>
                  <a:pt x="6397" y="13844"/>
                  <a:pt x="6408" y="13926"/>
                  <a:pt x="6449" y="13940"/>
                </a:cubicBezTo>
              </a:path>
              <a:path w="3276" h="2630">
                <a:moveTo>
                  <a:pt x="6623" y="13469"/>
                </a:moveTo>
                <a:cubicBezTo>
                  <a:pt x="6623" y="13506"/>
                  <a:pt x="6617" y="13615"/>
                  <a:pt x="6648" y="13643"/>
                </a:cubicBezTo>
                <a:cubicBezTo>
                  <a:pt x="6694" y="13685"/>
                  <a:pt x="6738" y="13692"/>
                  <a:pt x="6796" y="13692"/>
                </a:cubicBezTo>
                <a:cubicBezTo>
                  <a:pt x="6844" y="13692"/>
                  <a:pt x="6883" y="13668"/>
                  <a:pt x="6896" y="13618"/>
                </a:cubicBezTo>
                <a:cubicBezTo>
                  <a:pt x="6907" y="13577"/>
                  <a:pt x="6904" y="13494"/>
                  <a:pt x="6871" y="13469"/>
                </a:cubicBezTo>
                <a:cubicBezTo>
                  <a:pt x="6816" y="13427"/>
                  <a:pt x="6734" y="13401"/>
                  <a:pt x="6672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304920"/>
          <a:ext cx="7620120" cy="33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7620120" cy="33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33520" y="3581280"/>
            <a:ext cx="82296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hings to not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ach expansion there are n+1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ach expansion, x and y have symmetric roles.  The powers of x decrease by 1 in successive terms, whereas the powers of y increase by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m of the powers of each term is n.  For instance, in the expansion of (x+y)5, the sum o f the powers of each term is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efficients increase and then decrease in a symmetric pat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inomial coefficient is also called a “combination”.  It is written as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a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81480" y="2819520"/>
          <a:ext cx="68580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819520"/>
                    <a:ext cx="68580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187280" y="3303720"/>
            <a:ext cx="1125720" cy="2438280"/>
          </a:xfrm>
          <a:custGeom>
            <a:avLst/>
            <a:gdLst/>
            <a:ahLst/>
            <a:rect l="l" t="t" r="r" b="b"/>
            <a:pathLst>
              <a:path w="3126" h="6772">
                <a:moveTo>
                  <a:pt x="3373" y="11038"/>
                </a:moveTo>
                <a:cubicBezTo>
                  <a:pt x="3373" y="10986"/>
                  <a:pt x="3355" y="11070"/>
                  <a:pt x="3349" y="11088"/>
                </a:cubicBezTo>
                <a:cubicBezTo>
                  <a:pt x="3328" y="11151"/>
                  <a:pt x="3327" y="11244"/>
                  <a:pt x="3324" y="11311"/>
                </a:cubicBezTo>
                <a:cubicBezTo>
                  <a:pt x="3320" y="11389"/>
                  <a:pt x="3305" y="11458"/>
                  <a:pt x="3299" y="11534"/>
                </a:cubicBezTo>
                <a:cubicBezTo>
                  <a:pt x="3297" y="11562"/>
                  <a:pt x="3299" y="11733"/>
                  <a:pt x="3299" y="11683"/>
                </a:cubicBezTo>
              </a:path>
              <a:path w="3126" h="6772">
                <a:moveTo>
                  <a:pt x="3621" y="11112"/>
                </a:moveTo>
                <a:cubicBezTo>
                  <a:pt x="3671" y="11084"/>
                  <a:pt x="3691" y="11063"/>
                  <a:pt x="3746" y="11063"/>
                </a:cubicBezTo>
                <a:cubicBezTo>
                  <a:pt x="3805" y="11063"/>
                  <a:pt x="3851" y="11050"/>
                  <a:pt x="3894" y="11088"/>
                </a:cubicBezTo>
                <a:cubicBezTo>
                  <a:pt x="3911" y="11103"/>
                  <a:pt x="3972" y="11166"/>
                  <a:pt x="3969" y="11187"/>
                </a:cubicBezTo>
                <a:cubicBezTo>
                  <a:pt x="3961" y="11242"/>
                  <a:pt x="3919" y="11311"/>
                  <a:pt x="3894" y="11361"/>
                </a:cubicBezTo>
                <a:cubicBezTo>
                  <a:pt x="3862" y="11425"/>
                  <a:pt x="3797" y="11479"/>
                  <a:pt x="3746" y="11534"/>
                </a:cubicBezTo>
                <a:cubicBezTo>
                  <a:pt x="3721" y="11561"/>
                  <a:pt x="3654" y="11618"/>
                  <a:pt x="3646" y="11633"/>
                </a:cubicBezTo>
                <a:cubicBezTo>
                  <a:pt x="3646" y="11658"/>
                  <a:pt x="3646" y="11666"/>
                  <a:pt x="3646" y="11683"/>
                </a:cubicBezTo>
                <a:cubicBezTo>
                  <a:pt x="3696" y="11670"/>
                  <a:pt x="3710" y="11658"/>
                  <a:pt x="3770" y="11658"/>
                </a:cubicBezTo>
                <a:cubicBezTo>
                  <a:pt x="3829" y="11658"/>
                  <a:pt x="3890" y="11663"/>
                  <a:pt x="3944" y="11683"/>
                </a:cubicBezTo>
                <a:cubicBezTo>
                  <a:pt x="4000" y="11704"/>
                  <a:pt x="4040" y="11742"/>
                  <a:pt x="4093" y="11757"/>
                </a:cubicBezTo>
                <a:cubicBezTo>
                  <a:pt x="4135" y="11769"/>
                  <a:pt x="4164" y="11730"/>
                  <a:pt x="4192" y="11708"/>
                </a:cubicBezTo>
              </a:path>
              <a:path w="3126" h="6772">
                <a:moveTo>
                  <a:pt x="5159" y="9748"/>
                </a:moveTo>
                <a:cubicBezTo>
                  <a:pt x="5173" y="9771"/>
                  <a:pt x="5199" y="9806"/>
                  <a:pt x="5209" y="9823"/>
                </a:cubicBezTo>
                <a:cubicBezTo>
                  <a:pt x="5203" y="9804"/>
                  <a:pt x="5193" y="9722"/>
                  <a:pt x="5184" y="9674"/>
                </a:cubicBezTo>
                <a:cubicBezTo>
                  <a:pt x="5168" y="9590"/>
                  <a:pt x="5141" y="9529"/>
                  <a:pt x="5110" y="9451"/>
                </a:cubicBezTo>
                <a:cubicBezTo>
                  <a:pt x="5083" y="9381"/>
                  <a:pt x="5032" y="9294"/>
                  <a:pt x="4961" y="9252"/>
                </a:cubicBezTo>
                <a:cubicBezTo>
                  <a:pt x="4902" y="9217"/>
                  <a:pt x="4854" y="9163"/>
                  <a:pt x="4787" y="9178"/>
                </a:cubicBezTo>
                <a:cubicBezTo>
                  <a:pt x="4734" y="9190"/>
                  <a:pt x="4633" y="9260"/>
                  <a:pt x="4589" y="9302"/>
                </a:cubicBezTo>
                <a:cubicBezTo>
                  <a:pt x="4496" y="9391"/>
                  <a:pt x="4449" y="9499"/>
                  <a:pt x="4415" y="9624"/>
                </a:cubicBezTo>
                <a:cubicBezTo>
                  <a:pt x="4379" y="9758"/>
                  <a:pt x="4354" y="9933"/>
                  <a:pt x="4341" y="10071"/>
                </a:cubicBezTo>
                <a:cubicBezTo>
                  <a:pt x="4327" y="10218"/>
                  <a:pt x="4345" y="10373"/>
                  <a:pt x="4366" y="10517"/>
                </a:cubicBezTo>
                <a:cubicBezTo>
                  <a:pt x="4390" y="10680"/>
                  <a:pt x="4459" y="10901"/>
                  <a:pt x="4614" y="10988"/>
                </a:cubicBezTo>
                <a:cubicBezTo>
                  <a:pt x="4677" y="11023"/>
                  <a:pt x="4818" y="11068"/>
                  <a:pt x="4887" y="11063"/>
                </a:cubicBezTo>
                <a:cubicBezTo>
                  <a:pt x="4949" y="11058"/>
                  <a:pt x="5062" y="11039"/>
                  <a:pt x="5110" y="11013"/>
                </a:cubicBezTo>
                <a:cubicBezTo>
                  <a:pt x="5135" y="10988"/>
                  <a:pt x="5143" y="10980"/>
                  <a:pt x="5159" y="10964"/>
                </a:cubicBezTo>
              </a:path>
              <a:path w="3126" h="6772">
                <a:moveTo>
                  <a:pt x="5507" y="11385"/>
                </a:moveTo>
                <a:cubicBezTo>
                  <a:pt x="5554" y="11373"/>
                  <a:pt x="5564" y="11330"/>
                  <a:pt x="5606" y="11311"/>
                </a:cubicBezTo>
                <a:cubicBezTo>
                  <a:pt x="5651" y="11291"/>
                  <a:pt x="5675" y="11261"/>
                  <a:pt x="5730" y="11261"/>
                </a:cubicBezTo>
                <a:cubicBezTo>
                  <a:pt x="5770" y="11261"/>
                  <a:pt x="5810" y="11267"/>
                  <a:pt x="5829" y="11311"/>
                </a:cubicBezTo>
                <a:cubicBezTo>
                  <a:pt x="5859" y="11377"/>
                  <a:pt x="5840" y="11404"/>
                  <a:pt x="5829" y="11460"/>
                </a:cubicBezTo>
                <a:cubicBezTo>
                  <a:pt x="5812" y="11546"/>
                  <a:pt x="5773" y="11581"/>
                  <a:pt x="5730" y="11658"/>
                </a:cubicBezTo>
                <a:cubicBezTo>
                  <a:pt x="5706" y="11702"/>
                  <a:pt x="5660" y="11761"/>
                  <a:pt x="5655" y="11807"/>
                </a:cubicBezTo>
                <a:cubicBezTo>
                  <a:pt x="5651" y="11839"/>
                  <a:pt x="5614" y="11892"/>
                  <a:pt x="5680" y="11906"/>
                </a:cubicBezTo>
                <a:cubicBezTo>
                  <a:pt x="5766" y="11924"/>
                  <a:pt x="5850" y="11894"/>
                  <a:pt x="5928" y="11881"/>
                </a:cubicBezTo>
                <a:cubicBezTo>
                  <a:pt x="5959" y="11876"/>
                  <a:pt x="6130" y="11881"/>
                  <a:pt x="6077" y="11881"/>
                </a:cubicBezTo>
                <a:cubicBezTo>
                  <a:pt x="6069" y="11881"/>
                  <a:pt x="6060" y="11881"/>
                  <a:pt x="6052" y="11881"/>
                </a:cubicBezTo>
              </a:path>
              <a:path w="3126" h="6772">
                <a:moveTo>
                  <a:pt x="4043" y="12626"/>
                </a:moveTo>
                <a:cubicBezTo>
                  <a:pt x="3984" y="12720"/>
                  <a:pt x="3903" y="12801"/>
                  <a:pt x="3845" y="12898"/>
                </a:cubicBezTo>
                <a:cubicBezTo>
                  <a:pt x="3776" y="13012"/>
                  <a:pt x="3711" y="13188"/>
                  <a:pt x="3696" y="13320"/>
                </a:cubicBezTo>
                <a:cubicBezTo>
                  <a:pt x="3675" y="13507"/>
                  <a:pt x="3688" y="13657"/>
                  <a:pt x="3721" y="13841"/>
                </a:cubicBezTo>
                <a:cubicBezTo>
                  <a:pt x="3755" y="14028"/>
                  <a:pt x="3810" y="14207"/>
                  <a:pt x="3870" y="14387"/>
                </a:cubicBezTo>
                <a:cubicBezTo>
                  <a:pt x="3946" y="14616"/>
                  <a:pt x="4061" y="14906"/>
                  <a:pt x="4242" y="15081"/>
                </a:cubicBezTo>
                <a:cubicBezTo>
                  <a:pt x="4315" y="15151"/>
                  <a:pt x="4396" y="15206"/>
                  <a:pt x="4490" y="15156"/>
                </a:cubicBezTo>
                <a:cubicBezTo>
                  <a:pt x="4541" y="15104"/>
                  <a:pt x="4558" y="15085"/>
                  <a:pt x="4564" y="15032"/>
                </a:cubicBezTo>
              </a:path>
              <a:path w="3126" h="6772">
                <a:moveTo>
                  <a:pt x="4837" y="13022"/>
                </a:moveTo>
                <a:cubicBezTo>
                  <a:pt x="4821" y="13185"/>
                  <a:pt x="4812" y="13332"/>
                  <a:pt x="4812" y="13494"/>
                </a:cubicBezTo>
                <a:cubicBezTo>
                  <a:pt x="4812" y="13578"/>
                  <a:pt x="4818" y="13646"/>
                  <a:pt x="4837" y="13717"/>
                </a:cubicBezTo>
                <a:cubicBezTo>
                  <a:pt x="4837" y="13742"/>
                  <a:pt x="4837" y="13750"/>
                  <a:pt x="4837" y="13767"/>
                </a:cubicBezTo>
              </a:path>
              <a:path w="3126" h="6772">
                <a:moveTo>
                  <a:pt x="5184" y="13022"/>
                </a:moveTo>
                <a:cubicBezTo>
                  <a:pt x="5279" y="13062"/>
                  <a:pt x="5397" y="13105"/>
                  <a:pt x="5432" y="13221"/>
                </a:cubicBezTo>
                <a:cubicBezTo>
                  <a:pt x="5461" y="13317"/>
                  <a:pt x="5440" y="13501"/>
                  <a:pt x="5407" y="13593"/>
                </a:cubicBezTo>
                <a:cubicBezTo>
                  <a:pt x="5389" y="13643"/>
                  <a:pt x="5327" y="13736"/>
                  <a:pt x="5283" y="13767"/>
                </a:cubicBezTo>
                <a:cubicBezTo>
                  <a:pt x="5238" y="13799"/>
                  <a:pt x="5243" y="13805"/>
                  <a:pt x="5209" y="13816"/>
                </a:cubicBezTo>
                <a:cubicBezTo>
                  <a:pt x="5194" y="13811"/>
                  <a:pt x="5144" y="13776"/>
                  <a:pt x="5159" y="13742"/>
                </a:cubicBezTo>
                <a:cubicBezTo>
                  <a:pt x="5171" y="13714"/>
                  <a:pt x="5204" y="13676"/>
                  <a:pt x="5209" y="13667"/>
                </a:cubicBezTo>
                <a:cubicBezTo>
                  <a:pt x="5227" y="13633"/>
                  <a:pt x="5279" y="13627"/>
                  <a:pt x="5333" y="13643"/>
                </a:cubicBezTo>
                <a:cubicBezTo>
                  <a:pt x="5407" y="13665"/>
                  <a:pt x="5486" y="13709"/>
                  <a:pt x="5556" y="13742"/>
                </a:cubicBezTo>
                <a:cubicBezTo>
                  <a:pt x="5588" y="13757"/>
                  <a:pt x="5714" y="13797"/>
                  <a:pt x="5730" y="13816"/>
                </a:cubicBezTo>
                <a:cubicBezTo>
                  <a:pt x="5730" y="13824"/>
                  <a:pt x="5730" y="13833"/>
                  <a:pt x="5730" y="13841"/>
                </a:cubicBezTo>
              </a:path>
              <a:path w="3126" h="6772">
                <a:moveTo>
                  <a:pt x="4887" y="14585"/>
                </a:moveTo>
                <a:cubicBezTo>
                  <a:pt x="4942" y="14546"/>
                  <a:pt x="4976" y="14497"/>
                  <a:pt x="5035" y="14461"/>
                </a:cubicBezTo>
                <a:cubicBezTo>
                  <a:pt x="5097" y="14423"/>
                  <a:pt x="5112" y="14412"/>
                  <a:pt x="5184" y="14412"/>
                </a:cubicBezTo>
                <a:cubicBezTo>
                  <a:pt x="5253" y="14412"/>
                  <a:pt x="5272" y="14425"/>
                  <a:pt x="5308" y="14486"/>
                </a:cubicBezTo>
                <a:cubicBezTo>
                  <a:pt x="5349" y="14555"/>
                  <a:pt x="5355" y="14655"/>
                  <a:pt x="5358" y="14734"/>
                </a:cubicBezTo>
                <a:cubicBezTo>
                  <a:pt x="5362" y="14843"/>
                  <a:pt x="5350" y="14931"/>
                  <a:pt x="5308" y="15032"/>
                </a:cubicBezTo>
                <a:cubicBezTo>
                  <a:pt x="5288" y="15081"/>
                  <a:pt x="5211" y="15188"/>
                  <a:pt x="5159" y="15205"/>
                </a:cubicBezTo>
                <a:cubicBezTo>
                  <a:pt x="5111" y="15221"/>
                  <a:pt x="5045" y="15210"/>
                  <a:pt x="5011" y="15180"/>
                </a:cubicBezTo>
                <a:cubicBezTo>
                  <a:pt x="4956" y="15131"/>
                  <a:pt x="4961" y="15107"/>
                  <a:pt x="4961" y="15032"/>
                </a:cubicBezTo>
                <a:cubicBezTo>
                  <a:pt x="4961" y="14982"/>
                  <a:pt x="4955" y="14933"/>
                  <a:pt x="5011" y="14908"/>
                </a:cubicBezTo>
                <a:cubicBezTo>
                  <a:pt x="5047" y="14892"/>
                  <a:pt x="5111" y="14937"/>
                  <a:pt x="5135" y="14957"/>
                </a:cubicBezTo>
                <a:cubicBezTo>
                  <a:pt x="5210" y="15020"/>
                  <a:pt x="5317" y="15087"/>
                  <a:pt x="5383" y="15156"/>
                </a:cubicBezTo>
                <a:cubicBezTo>
                  <a:pt x="5459" y="15236"/>
                  <a:pt x="5473" y="15243"/>
                  <a:pt x="5581" y="15280"/>
                </a:cubicBezTo>
              </a:path>
              <a:path w="3126" h="6772">
                <a:moveTo>
                  <a:pt x="5730" y="12725"/>
                </a:moveTo>
                <a:cubicBezTo>
                  <a:pt x="5833" y="12875"/>
                  <a:pt x="5915" y="13035"/>
                  <a:pt x="6003" y="13196"/>
                </a:cubicBezTo>
                <a:cubicBezTo>
                  <a:pt x="6145" y="13453"/>
                  <a:pt x="6253" y="13729"/>
                  <a:pt x="6325" y="14015"/>
                </a:cubicBezTo>
                <a:cubicBezTo>
                  <a:pt x="6406" y="14340"/>
                  <a:pt x="6435" y="14625"/>
                  <a:pt x="6400" y="14957"/>
                </a:cubicBezTo>
                <a:cubicBezTo>
                  <a:pt x="6363" y="15308"/>
                  <a:pt x="6251" y="15574"/>
                  <a:pt x="6028" y="15850"/>
                </a:cubicBezTo>
                <a:cubicBezTo>
                  <a:pt x="5978" y="15900"/>
                  <a:pt x="5962" y="15916"/>
                  <a:pt x="5928" y="159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calculate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76720" y="2284560"/>
          <a:ext cx="3276360" cy="17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284560"/>
                    <a:ext cx="3276360" cy="17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e the following by han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32000" y="1320840"/>
            <a:ext cx="4618080" cy="1009440"/>
          </a:xfrm>
          <a:custGeom>
            <a:avLst/>
            <a:gdLst/>
            <a:ahLst/>
            <a:rect l="l" t="t" r="r" b="b"/>
            <a:pathLst>
              <a:path w="12825" h="2804">
                <a:moveTo>
                  <a:pt x="6201" y="5333"/>
                </a:moveTo>
                <a:cubicBezTo>
                  <a:pt x="6263" y="5333"/>
                  <a:pt x="6291" y="5323"/>
                  <a:pt x="6350" y="5308"/>
                </a:cubicBezTo>
                <a:cubicBezTo>
                  <a:pt x="6401" y="5295"/>
                  <a:pt x="6479" y="5292"/>
                  <a:pt x="6524" y="5283"/>
                </a:cubicBezTo>
                <a:cubicBezTo>
                  <a:pt x="6559" y="5276"/>
                  <a:pt x="6741" y="5283"/>
                  <a:pt x="6697" y="5283"/>
                </a:cubicBezTo>
              </a:path>
              <a:path w="12825" h="2804">
                <a:moveTo>
                  <a:pt x="6226" y="5631"/>
                </a:moveTo>
                <a:cubicBezTo>
                  <a:pt x="6308" y="5631"/>
                  <a:pt x="6676" y="5595"/>
                  <a:pt x="6697" y="5655"/>
                </a:cubicBezTo>
              </a:path>
              <a:path w="12825" h="2804">
                <a:moveTo>
                  <a:pt x="8384" y="3820"/>
                </a:moveTo>
                <a:cubicBezTo>
                  <a:pt x="8362" y="3827"/>
                  <a:pt x="8345" y="3862"/>
                  <a:pt x="8334" y="3894"/>
                </a:cubicBezTo>
                <a:cubicBezTo>
                  <a:pt x="8326" y="3918"/>
                  <a:pt x="8325" y="3941"/>
                  <a:pt x="8310" y="3969"/>
                </a:cubicBezTo>
                <a:cubicBezTo>
                  <a:pt x="8290" y="4004"/>
                  <a:pt x="8280" y="4060"/>
                  <a:pt x="8260" y="4093"/>
                </a:cubicBezTo>
                <a:cubicBezTo>
                  <a:pt x="8229" y="4145"/>
                  <a:pt x="8212" y="4187"/>
                  <a:pt x="8186" y="4242"/>
                </a:cubicBezTo>
                <a:cubicBezTo>
                  <a:pt x="8159" y="4299"/>
                  <a:pt x="8140" y="4352"/>
                  <a:pt x="8136" y="4415"/>
                </a:cubicBezTo>
                <a:cubicBezTo>
                  <a:pt x="8131" y="4500"/>
                  <a:pt x="8116" y="4508"/>
                  <a:pt x="8136" y="4589"/>
                </a:cubicBezTo>
                <a:cubicBezTo>
                  <a:pt x="8153" y="4659"/>
                  <a:pt x="8130" y="4691"/>
                  <a:pt x="8210" y="4738"/>
                </a:cubicBezTo>
                <a:cubicBezTo>
                  <a:pt x="8239" y="4755"/>
                  <a:pt x="8273" y="4762"/>
                  <a:pt x="8310" y="4762"/>
                </a:cubicBezTo>
                <a:cubicBezTo>
                  <a:pt x="8356" y="4762"/>
                  <a:pt x="8420" y="4757"/>
                  <a:pt x="8458" y="4738"/>
                </a:cubicBezTo>
                <a:cubicBezTo>
                  <a:pt x="8490" y="4722"/>
                  <a:pt x="8562" y="4666"/>
                  <a:pt x="8582" y="4638"/>
                </a:cubicBezTo>
                <a:cubicBezTo>
                  <a:pt x="8628" y="4574"/>
                  <a:pt x="8606" y="4551"/>
                  <a:pt x="8632" y="4490"/>
                </a:cubicBezTo>
                <a:cubicBezTo>
                  <a:pt x="8649" y="4450"/>
                  <a:pt x="8673" y="4419"/>
                  <a:pt x="8607" y="4390"/>
                </a:cubicBezTo>
                <a:cubicBezTo>
                  <a:pt x="8566" y="4372"/>
                  <a:pt x="8512" y="4389"/>
                  <a:pt x="8483" y="4415"/>
                </a:cubicBezTo>
                <a:cubicBezTo>
                  <a:pt x="8448" y="4446"/>
                  <a:pt x="8430" y="4482"/>
                  <a:pt x="8409" y="4514"/>
                </a:cubicBezTo>
                <a:cubicBezTo>
                  <a:pt x="8372" y="4568"/>
                  <a:pt x="8359" y="4565"/>
                  <a:pt x="8359" y="4638"/>
                </a:cubicBezTo>
                <a:cubicBezTo>
                  <a:pt x="8359" y="4679"/>
                  <a:pt x="8359" y="4721"/>
                  <a:pt x="8359" y="4762"/>
                </a:cubicBezTo>
              </a:path>
              <a:path w="12825" h="2804">
                <a:moveTo>
                  <a:pt x="9178" y="3671"/>
                </a:moveTo>
                <a:cubicBezTo>
                  <a:pt x="9164" y="3796"/>
                  <a:pt x="9153" y="3897"/>
                  <a:pt x="9153" y="4018"/>
                </a:cubicBezTo>
                <a:cubicBezTo>
                  <a:pt x="9153" y="4102"/>
                  <a:pt x="9150" y="4171"/>
                  <a:pt x="9128" y="4242"/>
                </a:cubicBezTo>
                <a:cubicBezTo>
                  <a:pt x="9115" y="4284"/>
                  <a:pt x="9116" y="4327"/>
                  <a:pt x="9103" y="4366"/>
                </a:cubicBezTo>
                <a:cubicBezTo>
                  <a:pt x="9103" y="4374"/>
                  <a:pt x="9103" y="4382"/>
                  <a:pt x="9103" y="4390"/>
                </a:cubicBezTo>
              </a:path>
              <a:path w="12825" h="2804">
                <a:moveTo>
                  <a:pt x="9178" y="4762"/>
                </a:moveTo>
                <a:cubicBezTo>
                  <a:pt x="9178" y="4738"/>
                  <a:pt x="9178" y="4730"/>
                  <a:pt x="9153" y="4738"/>
                </a:cubicBezTo>
              </a:path>
              <a:path w="12825" h="2804">
                <a:moveTo>
                  <a:pt x="7615" y="5011"/>
                </a:moveTo>
                <a:cubicBezTo>
                  <a:pt x="7678" y="5026"/>
                  <a:pt x="7655" y="5017"/>
                  <a:pt x="7714" y="5011"/>
                </a:cubicBezTo>
                <a:cubicBezTo>
                  <a:pt x="8083" y="4971"/>
                  <a:pt x="8464" y="5027"/>
                  <a:pt x="8830" y="4986"/>
                </a:cubicBezTo>
                <a:cubicBezTo>
                  <a:pt x="8929" y="4975"/>
                  <a:pt x="9898" y="5018"/>
                  <a:pt x="9897" y="4961"/>
                </a:cubicBezTo>
                <a:cubicBezTo>
                  <a:pt x="9889" y="4961"/>
                  <a:pt x="9880" y="4961"/>
                  <a:pt x="9872" y="4961"/>
                </a:cubicBezTo>
              </a:path>
              <a:path w="12825" h="2804">
                <a:moveTo>
                  <a:pt x="7590" y="5755"/>
                </a:moveTo>
                <a:cubicBezTo>
                  <a:pt x="7590" y="5699"/>
                  <a:pt x="7610" y="5721"/>
                  <a:pt x="7615" y="5680"/>
                </a:cubicBezTo>
                <a:cubicBezTo>
                  <a:pt x="7621" y="5634"/>
                  <a:pt x="7667" y="5598"/>
                  <a:pt x="7689" y="5581"/>
                </a:cubicBezTo>
                <a:cubicBezTo>
                  <a:pt x="7725" y="5554"/>
                  <a:pt x="7728" y="5531"/>
                  <a:pt x="7764" y="5507"/>
                </a:cubicBezTo>
                <a:cubicBezTo>
                  <a:pt x="7817" y="5472"/>
                  <a:pt x="7813" y="5471"/>
                  <a:pt x="7863" y="5482"/>
                </a:cubicBezTo>
                <a:cubicBezTo>
                  <a:pt x="7930" y="5497"/>
                  <a:pt x="7889" y="5514"/>
                  <a:pt x="7913" y="5556"/>
                </a:cubicBezTo>
                <a:cubicBezTo>
                  <a:pt x="7942" y="5608"/>
                  <a:pt x="7938" y="5639"/>
                  <a:pt x="7938" y="5705"/>
                </a:cubicBezTo>
                <a:cubicBezTo>
                  <a:pt x="7938" y="5803"/>
                  <a:pt x="7928" y="5887"/>
                  <a:pt x="7913" y="5978"/>
                </a:cubicBezTo>
                <a:cubicBezTo>
                  <a:pt x="7902" y="6044"/>
                  <a:pt x="7884" y="6120"/>
                  <a:pt x="7838" y="6176"/>
                </a:cubicBezTo>
                <a:cubicBezTo>
                  <a:pt x="7786" y="6240"/>
                  <a:pt x="7734" y="6308"/>
                  <a:pt x="7665" y="6350"/>
                </a:cubicBezTo>
                <a:cubicBezTo>
                  <a:pt x="7618" y="6378"/>
                  <a:pt x="7592" y="6375"/>
                  <a:pt x="7541" y="6375"/>
                </a:cubicBezTo>
                <a:cubicBezTo>
                  <a:pt x="7486" y="6375"/>
                  <a:pt x="7487" y="6331"/>
                  <a:pt x="7466" y="6300"/>
                </a:cubicBezTo>
                <a:cubicBezTo>
                  <a:pt x="7444" y="6267"/>
                  <a:pt x="7421" y="6242"/>
                  <a:pt x="7417" y="6201"/>
                </a:cubicBezTo>
                <a:cubicBezTo>
                  <a:pt x="7415" y="6178"/>
                  <a:pt x="7444" y="6113"/>
                  <a:pt x="7466" y="6102"/>
                </a:cubicBezTo>
                <a:cubicBezTo>
                  <a:pt x="7503" y="6084"/>
                  <a:pt x="7530" y="6078"/>
                  <a:pt x="7565" y="6102"/>
                </a:cubicBezTo>
                <a:cubicBezTo>
                  <a:pt x="7605" y="6129"/>
                  <a:pt x="7629" y="6181"/>
                  <a:pt x="7640" y="6226"/>
                </a:cubicBezTo>
                <a:cubicBezTo>
                  <a:pt x="7648" y="6259"/>
                  <a:pt x="7650" y="6320"/>
                  <a:pt x="7665" y="6350"/>
                </a:cubicBezTo>
                <a:cubicBezTo>
                  <a:pt x="7676" y="6374"/>
                  <a:pt x="7696" y="6462"/>
                  <a:pt x="7714" y="6474"/>
                </a:cubicBezTo>
                <a:cubicBezTo>
                  <a:pt x="7742" y="6474"/>
                  <a:pt x="7753" y="6472"/>
                  <a:pt x="7764" y="6449"/>
                </a:cubicBezTo>
              </a:path>
              <a:path w="12825" h="2804">
                <a:moveTo>
                  <a:pt x="8434" y="5308"/>
                </a:moveTo>
                <a:cubicBezTo>
                  <a:pt x="8427" y="5362"/>
                  <a:pt x="8409" y="5403"/>
                  <a:pt x="8409" y="5457"/>
                </a:cubicBezTo>
                <a:cubicBezTo>
                  <a:pt x="8409" y="5517"/>
                  <a:pt x="8424" y="5558"/>
                  <a:pt x="8434" y="5606"/>
                </a:cubicBezTo>
                <a:cubicBezTo>
                  <a:pt x="8445" y="5660"/>
                  <a:pt x="8444" y="5707"/>
                  <a:pt x="8458" y="5755"/>
                </a:cubicBezTo>
                <a:cubicBezTo>
                  <a:pt x="8468" y="5791"/>
                  <a:pt x="8458" y="5842"/>
                  <a:pt x="8458" y="5879"/>
                </a:cubicBezTo>
              </a:path>
              <a:path w="12825" h="2804">
                <a:moveTo>
                  <a:pt x="8384" y="6325"/>
                </a:moveTo>
                <a:cubicBezTo>
                  <a:pt x="8384" y="6300"/>
                  <a:pt x="8384" y="6292"/>
                  <a:pt x="8359" y="6300"/>
                </a:cubicBezTo>
              </a:path>
              <a:path w="12825" h="2804">
                <a:moveTo>
                  <a:pt x="9004" y="5308"/>
                </a:moveTo>
                <a:cubicBezTo>
                  <a:pt x="9004" y="5358"/>
                  <a:pt x="8993" y="5367"/>
                  <a:pt x="8979" y="5407"/>
                </a:cubicBezTo>
                <a:cubicBezTo>
                  <a:pt x="8959" y="5465"/>
                  <a:pt x="8934" y="5523"/>
                  <a:pt x="8905" y="5581"/>
                </a:cubicBezTo>
                <a:cubicBezTo>
                  <a:pt x="8860" y="5671"/>
                  <a:pt x="8816" y="5760"/>
                  <a:pt x="8781" y="5854"/>
                </a:cubicBezTo>
                <a:cubicBezTo>
                  <a:pt x="8750" y="5937"/>
                  <a:pt x="8710" y="6013"/>
                  <a:pt x="8706" y="6102"/>
                </a:cubicBezTo>
                <a:cubicBezTo>
                  <a:pt x="8703" y="6177"/>
                  <a:pt x="8687" y="6284"/>
                  <a:pt x="8731" y="6350"/>
                </a:cubicBezTo>
                <a:cubicBezTo>
                  <a:pt x="8751" y="6379"/>
                  <a:pt x="8768" y="6432"/>
                  <a:pt x="8806" y="6449"/>
                </a:cubicBezTo>
                <a:cubicBezTo>
                  <a:pt x="8846" y="6467"/>
                  <a:pt x="8835" y="6487"/>
                  <a:pt x="8830" y="6474"/>
                </a:cubicBezTo>
                <a:cubicBezTo>
                  <a:pt x="8830" y="6449"/>
                  <a:pt x="8830" y="6441"/>
                  <a:pt x="8830" y="6474"/>
                </a:cubicBezTo>
              </a:path>
              <a:path w="12825" h="2804">
                <a:moveTo>
                  <a:pt x="9227" y="5556"/>
                </a:moveTo>
                <a:cubicBezTo>
                  <a:pt x="9227" y="5609"/>
                  <a:pt x="9206" y="5626"/>
                  <a:pt x="9203" y="5680"/>
                </a:cubicBezTo>
                <a:cubicBezTo>
                  <a:pt x="9198" y="5763"/>
                  <a:pt x="9158" y="5874"/>
                  <a:pt x="9128" y="5953"/>
                </a:cubicBezTo>
                <a:cubicBezTo>
                  <a:pt x="9094" y="6042"/>
                  <a:pt x="9079" y="6077"/>
                  <a:pt x="9079" y="6176"/>
                </a:cubicBezTo>
                <a:cubicBezTo>
                  <a:pt x="9079" y="6233"/>
                  <a:pt x="9068" y="6281"/>
                  <a:pt x="9103" y="6325"/>
                </a:cubicBezTo>
                <a:cubicBezTo>
                  <a:pt x="9144" y="6377"/>
                  <a:pt x="9164" y="6375"/>
                  <a:pt x="9227" y="6375"/>
                </a:cubicBezTo>
                <a:cubicBezTo>
                  <a:pt x="9260" y="6375"/>
                  <a:pt x="9374" y="6308"/>
                  <a:pt x="9401" y="6276"/>
                </a:cubicBezTo>
                <a:cubicBezTo>
                  <a:pt x="9426" y="6247"/>
                  <a:pt x="9449" y="6163"/>
                  <a:pt x="9451" y="6127"/>
                </a:cubicBezTo>
                <a:cubicBezTo>
                  <a:pt x="9453" y="6093"/>
                  <a:pt x="9465" y="6022"/>
                  <a:pt x="9426" y="6003"/>
                </a:cubicBezTo>
                <a:cubicBezTo>
                  <a:pt x="9375" y="5978"/>
                  <a:pt x="9339" y="6040"/>
                  <a:pt x="9327" y="6077"/>
                </a:cubicBezTo>
                <a:cubicBezTo>
                  <a:pt x="9313" y="6119"/>
                  <a:pt x="9282" y="6152"/>
                  <a:pt x="9277" y="6201"/>
                </a:cubicBezTo>
                <a:cubicBezTo>
                  <a:pt x="9272" y="6252"/>
                  <a:pt x="9263" y="6312"/>
                  <a:pt x="9302" y="6325"/>
                </a:cubicBezTo>
              </a:path>
              <a:path w="12825" h="2804">
                <a:moveTo>
                  <a:pt x="9624" y="5854"/>
                </a:moveTo>
                <a:cubicBezTo>
                  <a:pt x="9715" y="5854"/>
                  <a:pt x="9789" y="5861"/>
                  <a:pt x="9872" y="5829"/>
                </a:cubicBezTo>
              </a:path>
              <a:path w="12825" h="2804">
                <a:moveTo>
                  <a:pt x="9971" y="5531"/>
                </a:moveTo>
                <a:cubicBezTo>
                  <a:pt x="10050" y="5481"/>
                  <a:pt x="10081" y="5457"/>
                  <a:pt x="10170" y="5457"/>
                </a:cubicBezTo>
                <a:cubicBezTo>
                  <a:pt x="10206" y="5457"/>
                  <a:pt x="10242" y="5464"/>
                  <a:pt x="10269" y="5482"/>
                </a:cubicBezTo>
                <a:cubicBezTo>
                  <a:pt x="10306" y="5506"/>
                  <a:pt x="10294" y="5543"/>
                  <a:pt x="10294" y="5581"/>
                </a:cubicBezTo>
                <a:cubicBezTo>
                  <a:pt x="10294" y="5628"/>
                  <a:pt x="10264" y="5687"/>
                  <a:pt x="10244" y="5730"/>
                </a:cubicBezTo>
                <a:cubicBezTo>
                  <a:pt x="10212" y="5798"/>
                  <a:pt x="10160" y="5843"/>
                  <a:pt x="10120" y="5904"/>
                </a:cubicBezTo>
                <a:cubicBezTo>
                  <a:pt x="10073" y="5974"/>
                  <a:pt x="10055" y="6039"/>
                  <a:pt x="9996" y="6102"/>
                </a:cubicBezTo>
                <a:cubicBezTo>
                  <a:pt x="9969" y="6132"/>
                  <a:pt x="9934" y="6165"/>
                  <a:pt x="9922" y="6201"/>
                </a:cubicBezTo>
                <a:cubicBezTo>
                  <a:pt x="9905" y="6252"/>
                  <a:pt x="9935" y="6250"/>
                  <a:pt x="9947" y="6226"/>
                </a:cubicBezTo>
                <a:cubicBezTo>
                  <a:pt x="9957" y="6206"/>
                  <a:pt x="10009" y="6180"/>
                  <a:pt x="10046" y="6201"/>
                </a:cubicBezTo>
                <a:cubicBezTo>
                  <a:pt x="10097" y="6230"/>
                  <a:pt x="10132" y="6226"/>
                  <a:pt x="10195" y="6226"/>
                </a:cubicBezTo>
                <a:cubicBezTo>
                  <a:pt x="10259" y="6226"/>
                  <a:pt x="10319" y="6239"/>
                  <a:pt x="10368" y="6201"/>
                </a:cubicBezTo>
              </a:path>
              <a:path w="12825" h="2804">
                <a:moveTo>
                  <a:pt x="10393" y="5234"/>
                </a:moveTo>
                <a:cubicBezTo>
                  <a:pt x="10495" y="5378"/>
                  <a:pt x="10562" y="5469"/>
                  <a:pt x="10616" y="5631"/>
                </a:cubicBezTo>
                <a:cubicBezTo>
                  <a:pt x="10650" y="5732"/>
                  <a:pt x="10687" y="5821"/>
                  <a:pt x="10691" y="5928"/>
                </a:cubicBezTo>
                <a:cubicBezTo>
                  <a:pt x="10694" y="6004"/>
                  <a:pt x="10700" y="6116"/>
                  <a:pt x="10641" y="6176"/>
                </a:cubicBezTo>
                <a:cubicBezTo>
                  <a:pt x="10576" y="6241"/>
                  <a:pt x="10475" y="6306"/>
                  <a:pt x="10393" y="6350"/>
                </a:cubicBezTo>
                <a:cubicBezTo>
                  <a:pt x="10328" y="6385"/>
                  <a:pt x="10223" y="6492"/>
                  <a:pt x="10195" y="6424"/>
                </a:cubicBezTo>
                <a:cubicBezTo>
                  <a:pt x="10203" y="6408"/>
                  <a:pt x="10212" y="6391"/>
                  <a:pt x="10220" y="6375"/>
                </a:cubicBezTo>
              </a:path>
              <a:path w="12825" h="2804">
                <a:moveTo>
                  <a:pt x="11038" y="5085"/>
                </a:moveTo>
                <a:cubicBezTo>
                  <a:pt x="11072" y="5163"/>
                  <a:pt x="11052" y="5164"/>
                  <a:pt x="11038" y="5234"/>
                </a:cubicBezTo>
                <a:cubicBezTo>
                  <a:pt x="11024" y="5303"/>
                  <a:pt x="11017" y="5387"/>
                  <a:pt x="11013" y="5457"/>
                </a:cubicBezTo>
                <a:cubicBezTo>
                  <a:pt x="11009" y="5536"/>
                  <a:pt x="10992" y="5604"/>
                  <a:pt x="10988" y="5680"/>
                </a:cubicBezTo>
                <a:cubicBezTo>
                  <a:pt x="10984" y="5759"/>
                  <a:pt x="10998" y="5803"/>
                  <a:pt x="11013" y="5879"/>
                </a:cubicBezTo>
                <a:cubicBezTo>
                  <a:pt x="11019" y="5910"/>
                  <a:pt x="11013" y="5946"/>
                  <a:pt x="11013" y="5978"/>
                </a:cubicBezTo>
              </a:path>
              <a:path w="12825" h="2804">
                <a:moveTo>
                  <a:pt x="11038" y="6325"/>
                </a:moveTo>
                <a:cubicBezTo>
                  <a:pt x="11013" y="6325"/>
                  <a:pt x="11005" y="6325"/>
                  <a:pt x="11013" y="6350"/>
                </a:cubicBezTo>
                <a:cubicBezTo>
                  <a:pt x="11062" y="6334"/>
                  <a:pt x="11032" y="6341"/>
                  <a:pt x="11013" y="6350"/>
                </a:cubicBezTo>
                <a:cubicBezTo>
                  <a:pt x="10988" y="6350"/>
                  <a:pt x="10980" y="6350"/>
                  <a:pt x="11013" y="6350"/>
                </a:cubicBezTo>
              </a:path>
              <a:path w="12825" h="2804">
                <a:moveTo>
                  <a:pt x="11733" y="4837"/>
                </a:moveTo>
                <a:cubicBezTo>
                  <a:pt x="11872" y="4837"/>
                  <a:pt x="12055" y="4876"/>
                  <a:pt x="12179" y="4862"/>
                </a:cubicBezTo>
                <a:cubicBezTo>
                  <a:pt x="12252" y="4854"/>
                  <a:pt x="12234" y="4852"/>
                  <a:pt x="12278" y="4837"/>
                </a:cubicBezTo>
              </a:path>
              <a:path w="12825" h="2804">
                <a:moveTo>
                  <a:pt x="11782" y="5135"/>
                </a:moveTo>
                <a:cubicBezTo>
                  <a:pt x="11878" y="5135"/>
                  <a:pt x="11960" y="5148"/>
                  <a:pt x="12055" y="5159"/>
                </a:cubicBezTo>
                <a:cubicBezTo>
                  <a:pt x="12128" y="5168"/>
                  <a:pt x="12184" y="5168"/>
                  <a:pt x="12254" y="5184"/>
                </a:cubicBezTo>
                <a:cubicBezTo>
                  <a:pt x="12271" y="5188"/>
                  <a:pt x="12389" y="5195"/>
                  <a:pt x="12353" y="5159"/>
                </a:cubicBezTo>
                <a:cubicBezTo>
                  <a:pt x="12345" y="5159"/>
                  <a:pt x="12336" y="5159"/>
                  <a:pt x="12328" y="5159"/>
                </a:cubicBezTo>
              </a:path>
              <a:path w="12825" h="2804">
                <a:moveTo>
                  <a:pt x="12849" y="3746"/>
                </a:moveTo>
                <a:cubicBezTo>
                  <a:pt x="12849" y="3675"/>
                  <a:pt x="12853" y="3789"/>
                  <a:pt x="12849" y="3795"/>
                </a:cubicBezTo>
                <a:cubicBezTo>
                  <a:pt x="12827" y="3835"/>
                  <a:pt x="12802" y="3868"/>
                  <a:pt x="12799" y="3919"/>
                </a:cubicBezTo>
                <a:cubicBezTo>
                  <a:pt x="12795" y="3984"/>
                  <a:pt x="12789" y="4077"/>
                  <a:pt x="12774" y="4142"/>
                </a:cubicBezTo>
                <a:cubicBezTo>
                  <a:pt x="12756" y="4220"/>
                  <a:pt x="12750" y="4282"/>
                  <a:pt x="12750" y="4366"/>
                </a:cubicBezTo>
                <a:cubicBezTo>
                  <a:pt x="12750" y="4441"/>
                  <a:pt x="12751" y="4520"/>
                  <a:pt x="12774" y="4589"/>
                </a:cubicBezTo>
                <a:cubicBezTo>
                  <a:pt x="12797" y="4659"/>
                  <a:pt x="12856" y="4696"/>
                  <a:pt x="12923" y="4713"/>
                </a:cubicBezTo>
                <a:cubicBezTo>
                  <a:pt x="12970" y="4725"/>
                  <a:pt x="13011" y="4695"/>
                  <a:pt x="13047" y="4663"/>
                </a:cubicBezTo>
                <a:cubicBezTo>
                  <a:pt x="13075" y="4638"/>
                  <a:pt x="13115" y="4551"/>
                  <a:pt x="13122" y="4514"/>
                </a:cubicBezTo>
                <a:cubicBezTo>
                  <a:pt x="13131" y="4461"/>
                  <a:pt x="13128" y="4358"/>
                  <a:pt x="13097" y="4316"/>
                </a:cubicBezTo>
                <a:cubicBezTo>
                  <a:pt x="13078" y="4290"/>
                  <a:pt x="13009" y="4331"/>
                  <a:pt x="12998" y="4341"/>
                </a:cubicBezTo>
                <a:cubicBezTo>
                  <a:pt x="12951" y="4384"/>
                  <a:pt x="12937" y="4428"/>
                  <a:pt x="12923" y="4490"/>
                </a:cubicBezTo>
                <a:cubicBezTo>
                  <a:pt x="12909" y="4551"/>
                  <a:pt x="12935" y="4585"/>
                  <a:pt x="12948" y="4638"/>
                </a:cubicBezTo>
                <a:cubicBezTo>
                  <a:pt x="12948" y="4646"/>
                  <a:pt x="12948" y="4655"/>
                  <a:pt x="12948" y="4663"/>
                </a:cubicBezTo>
              </a:path>
              <a:path w="12825" h="2804">
                <a:moveTo>
                  <a:pt x="13295" y="4266"/>
                </a:moveTo>
                <a:lnTo>
                  <a:pt x="13295" y="4266"/>
                </a:lnTo>
              </a:path>
              <a:path w="12825" h="2804">
                <a:moveTo>
                  <a:pt x="13543" y="3845"/>
                </a:moveTo>
                <a:cubicBezTo>
                  <a:pt x="13629" y="3845"/>
                  <a:pt x="13696" y="3835"/>
                  <a:pt x="13767" y="3820"/>
                </a:cubicBezTo>
                <a:cubicBezTo>
                  <a:pt x="13832" y="3806"/>
                  <a:pt x="13816" y="3833"/>
                  <a:pt x="13866" y="3795"/>
                </a:cubicBezTo>
              </a:path>
              <a:path w="12825" h="2804">
                <a:moveTo>
                  <a:pt x="13543" y="3919"/>
                </a:moveTo>
                <a:cubicBezTo>
                  <a:pt x="13522" y="3991"/>
                  <a:pt x="13519" y="4021"/>
                  <a:pt x="13519" y="4093"/>
                </a:cubicBezTo>
                <a:cubicBezTo>
                  <a:pt x="13519" y="4118"/>
                  <a:pt x="13526" y="4181"/>
                  <a:pt x="13543" y="4192"/>
                </a:cubicBezTo>
                <a:cubicBezTo>
                  <a:pt x="13551" y="4192"/>
                  <a:pt x="13560" y="4192"/>
                  <a:pt x="13568" y="4192"/>
                </a:cubicBezTo>
                <a:cubicBezTo>
                  <a:pt x="13568" y="4166"/>
                  <a:pt x="13575" y="4105"/>
                  <a:pt x="13593" y="4093"/>
                </a:cubicBezTo>
                <a:cubicBezTo>
                  <a:pt x="13642" y="4060"/>
                  <a:pt x="13715" y="4118"/>
                  <a:pt x="13742" y="4142"/>
                </a:cubicBezTo>
                <a:cubicBezTo>
                  <a:pt x="13798" y="4193"/>
                  <a:pt x="13829" y="4243"/>
                  <a:pt x="13841" y="4316"/>
                </a:cubicBezTo>
                <a:cubicBezTo>
                  <a:pt x="13853" y="4389"/>
                  <a:pt x="13854" y="4400"/>
                  <a:pt x="13841" y="4465"/>
                </a:cubicBezTo>
                <a:cubicBezTo>
                  <a:pt x="13828" y="4529"/>
                  <a:pt x="13815" y="4564"/>
                  <a:pt x="13742" y="4589"/>
                </a:cubicBezTo>
                <a:cubicBezTo>
                  <a:pt x="13690" y="4606"/>
                  <a:pt x="13650" y="4614"/>
                  <a:pt x="13593" y="4614"/>
                </a:cubicBezTo>
                <a:cubicBezTo>
                  <a:pt x="13553" y="4614"/>
                  <a:pt x="13527" y="4590"/>
                  <a:pt x="13519" y="4564"/>
                </a:cubicBezTo>
              </a:path>
              <a:path w="12825" h="2804">
                <a:moveTo>
                  <a:pt x="14015" y="4266"/>
                </a:moveTo>
                <a:lnTo>
                  <a:pt x="14015" y="4266"/>
                </a:lnTo>
              </a:path>
              <a:path w="12825" h="2804">
                <a:moveTo>
                  <a:pt x="14263" y="3894"/>
                </a:moveTo>
                <a:cubicBezTo>
                  <a:pt x="14243" y="3941"/>
                  <a:pt x="14216" y="3993"/>
                  <a:pt x="14213" y="4043"/>
                </a:cubicBezTo>
                <a:cubicBezTo>
                  <a:pt x="14211" y="4076"/>
                  <a:pt x="14214" y="4147"/>
                  <a:pt x="14238" y="4167"/>
                </a:cubicBezTo>
                <a:cubicBezTo>
                  <a:pt x="14259" y="4184"/>
                  <a:pt x="14328" y="4236"/>
                  <a:pt x="14362" y="4217"/>
                </a:cubicBezTo>
                <a:cubicBezTo>
                  <a:pt x="14390" y="4201"/>
                  <a:pt x="14443" y="4145"/>
                  <a:pt x="14461" y="4118"/>
                </a:cubicBezTo>
                <a:cubicBezTo>
                  <a:pt x="14469" y="4101"/>
                  <a:pt x="14478" y="4085"/>
                  <a:pt x="14486" y="4068"/>
                </a:cubicBezTo>
              </a:path>
              <a:path w="12825" h="2804">
                <a:moveTo>
                  <a:pt x="14461" y="3770"/>
                </a:moveTo>
                <a:cubicBezTo>
                  <a:pt x="14431" y="3879"/>
                  <a:pt x="14436" y="3979"/>
                  <a:pt x="14436" y="4093"/>
                </a:cubicBezTo>
                <a:cubicBezTo>
                  <a:pt x="14436" y="4187"/>
                  <a:pt x="14403" y="4333"/>
                  <a:pt x="14412" y="4415"/>
                </a:cubicBezTo>
                <a:cubicBezTo>
                  <a:pt x="14414" y="4437"/>
                  <a:pt x="14436" y="4602"/>
                  <a:pt x="14436" y="4539"/>
                </a:cubicBezTo>
              </a:path>
              <a:path w="12825" h="2804">
                <a:moveTo>
                  <a:pt x="14635" y="4341"/>
                </a:moveTo>
                <a:cubicBezTo>
                  <a:pt x="14635" y="4316"/>
                  <a:pt x="14635" y="4308"/>
                  <a:pt x="14635" y="4291"/>
                </a:cubicBezTo>
              </a:path>
              <a:path w="12825" h="2804">
                <a:moveTo>
                  <a:pt x="14908" y="3845"/>
                </a:moveTo>
                <a:cubicBezTo>
                  <a:pt x="14960" y="3808"/>
                  <a:pt x="15016" y="3750"/>
                  <a:pt x="15081" y="3746"/>
                </a:cubicBezTo>
                <a:cubicBezTo>
                  <a:pt x="15139" y="3742"/>
                  <a:pt x="15185" y="3766"/>
                  <a:pt x="15205" y="3820"/>
                </a:cubicBezTo>
                <a:cubicBezTo>
                  <a:pt x="15222" y="3867"/>
                  <a:pt x="15206" y="3980"/>
                  <a:pt x="15180" y="4018"/>
                </a:cubicBezTo>
                <a:cubicBezTo>
                  <a:pt x="15151" y="4061"/>
                  <a:pt x="15066" y="4141"/>
                  <a:pt x="15032" y="4167"/>
                </a:cubicBezTo>
                <a:cubicBezTo>
                  <a:pt x="14993" y="4197"/>
                  <a:pt x="14962" y="4232"/>
                  <a:pt x="14932" y="4242"/>
                </a:cubicBezTo>
                <a:cubicBezTo>
                  <a:pt x="14970" y="4213"/>
                  <a:pt x="14983" y="4217"/>
                  <a:pt x="15032" y="4217"/>
                </a:cubicBezTo>
                <a:cubicBezTo>
                  <a:pt x="15083" y="4217"/>
                  <a:pt x="15121" y="4296"/>
                  <a:pt x="15131" y="4341"/>
                </a:cubicBezTo>
                <a:cubicBezTo>
                  <a:pt x="15145" y="4404"/>
                  <a:pt x="15119" y="4457"/>
                  <a:pt x="15106" y="4514"/>
                </a:cubicBezTo>
                <a:cubicBezTo>
                  <a:pt x="15095" y="4562"/>
                  <a:pt x="15059" y="4597"/>
                  <a:pt x="15007" y="4614"/>
                </a:cubicBezTo>
                <a:cubicBezTo>
                  <a:pt x="14936" y="4638"/>
                  <a:pt x="14897" y="4631"/>
                  <a:pt x="14833" y="4614"/>
                </a:cubicBezTo>
                <a:cubicBezTo>
                  <a:pt x="14797" y="4604"/>
                  <a:pt x="14808" y="4605"/>
                  <a:pt x="14808" y="4564"/>
                </a:cubicBezTo>
              </a:path>
              <a:path w="12825" h="2804">
                <a:moveTo>
                  <a:pt x="15329" y="4291"/>
                </a:moveTo>
                <a:cubicBezTo>
                  <a:pt x="15329" y="4283"/>
                  <a:pt x="15329" y="4274"/>
                  <a:pt x="15329" y="4266"/>
                </a:cubicBezTo>
              </a:path>
              <a:path w="12825" h="2804">
                <a:moveTo>
                  <a:pt x="15602" y="3870"/>
                </a:moveTo>
                <a:cubicBezTo>
                  <a:pt x="15625" y="3847"/>
                  <a:pt x="15678" y="3768"/>
                  <a:pt x="15726" y="3795"/>
                </a:cubicBezTo>
                <a:cubicBezTo>
                  <a:pt x="15767" y="3818"/>
                  <a:pt x="15792" y="3848"/>
                  <a:pt x="15801" y="3894"/>
                </a:cubicBezTo>
                <a:cubicBezTo>
                  <a:pt x="15817" y="3975"/>
                  <a:pt x="15794" y="4116"/>
                  <a:pt x="15776" y="4192"/>
                </a:cubicBezTo>
                <a:cubicBezTo>
                  <a:pt x="15751" y="4296"/>
                  <a:pt x="15683" y="4380"/>
                  <a:pt x="15627" y="4465"/>
                </a:cubicBezTo>
                <a:cubicBezTo>
                  <a:pt x="15594" y="4515"/>
                  <a:pt x="15562" y="4565"/>
                  <a:pt x="15503" y="4589"/>
                </a:cubicBezTo>
                <a:cubicBezTo>
                  <a:pt x="15459" y="4607"/>
                  <a:pt x="15433" y="4577"/>
                  <a:pt x="15429" y="4539"/>
                </a:cubicBezTo>
                <a:cubicBezTo>
                  <a:pt x="15423" y="4486"/>
                  <a:pt x="15444" y="4453"/>
                  <a:pt x="15478" y="4415"/>
                </a:cubicBezTo>
                <a:cubicBezTo>
                  <a:pt x="15515" y="4374"/>
                  <a:pt x="15558" y="4385"/>
                  <a:pt x="15602" y="4415"/>
                </a:cubicBezTo>
                <a:cubicBezTo>
                  <a:pt x="15628" y="4432"/>
                  <a:pt x="15649" y="4486"/>
                  <a:pt x="15652" y="4514"/>
                </a:cubicBezTo>
                <a:cubicBezTo>
                  <a:pt x="15656" y="4551"/>
                  <a:pt x="15671" y="4650"/>
                  <a:pt x="15677" y="4614"/>
                </a:cubicBezTo>
                <a:cubicBezTo>
                  <a:pt x="15677" y="4597"/>
                  <a:pt x="15677" y="4581"/>
                  <a:pt x="15677" y="4564"/>
                </a:cubicBezTo>
              </a:path>
              <a:path w="12825" h="2804">
                <a:moveTo>
                  <a:pt x="15900" y="4242"/>
                </a:moveTo>
                <a:cubicBezTo>
                  <a:pt x="15908" y="4242"/>
                  <a:pt x="15917" y="4242"/>
                  <a:pt x="15925" y="4242"/>
                </a:cubicBezTo>
              </a:path>
              <a:path w="12825" h="2804">
                <a:moveTo>
                  <a:pt x="16321" y="3746"/>
                </a:moveTo>
                <a:cubicBezTo>
                  <a:pt x="16321" y="3851"/>
                  <a:pt x="16312" y="3944"/>
                  <a:pt x="16297" y="4043"/>
                </a:cubicBezTo>
                <a:cubicBezTo>
                  <a:pt x="16284" y="4127"/>
                  <a:pt x="16263" y="4207"/>
                  <a:pt x="16247" y="4291"/>
                </a:cubicBezTo>
                <a:cubicBezTo>
                  <a:pt x="16240" y="4331"/>
                  <a:pt x="16255" y="4535"/>
                  <a:pt x="16272" y="4514"/>
                </a:cubicBezTo>
                <a:cubicBezTo>
                  <a:pt x="16272" y="4506"/>
                  <a:pt x="16272" y="4498"/>
                  <a:pt x="16272" y="4490"/>
                </a:cubicBezTo>
              </a:path>
              <a:path w="12825" h="2804">
                <a:moveTo>
                  <a:pt x="12774" y="4862"/>
                </a:moveTo>
                <a:cubicBezTo>
                  <a:pt x="12816" y="4867"/>
                  <a:pt x="12836" y="4882"/>
                  <a:pt x="12874" y="4887"/>
                </a:cubicBezTo>
                <a:cubicBezTo>
                  <a:pt x="12983" y="4901"/>
                  <a:pt x="13091" y="4873"/>
                  <a:pt x="13196" y="4862"/>
                </a:cubicBezTo>
                <a:cubicBezTo>
                  <a:pt x="13288" y="4853"/>
                  <a:pt x="13380" y="4847"/>
                  <a:pt x="13469" y="4837"/>
                </a:cubicBezTo>
                <a:cubicBezTo>
                  <a:pt x="13639" y="4818"/>
                  <a:pt x="13820" y="4827"/>
                  <a:pt x="13990" y="4812"/>
                </a:cubicBezTo>
                <a:cubicBezTo>
                  <a:pt x="14332" y="4782"/>
                  <a:pt x="14694" y="4813"/>
                  <a:pt x="15032" y="4837"/>
                </a:cubicBezTo>
                <a:cubicBezTo>
                  <a:pt x="15359" y="4860"/>
                  <a:pt x="15696" y="4837"/>
                  <a:pt x="16024" y="4837"/>
                </a:cubicBezTo>
              </a:path>
              <a:path w="12825" h="2804">
                <a:moveTo>
                  <a:pt x="12601" y="5482"/>
                </a:moveTo>
                <a:cubicBezTo>
                  <a:pt x="12601" y="5426"/>
                  <a:pt x="12621" y="5448"/>
                  <a:pt x="12626" y="5407"/>
                </a:cubicBezTo>
                <a:cubicBezTo>
                  <a:pt x="12631" y="5371"/>
                  <a:pt x="12650" y="5336"/>
                  <a:pt x="12675" y="5308"/>
                </a:cubicBezTo>
                <a:cubicBezTo>
                  <a:pt x="12700" y="5279"/>
                  <a:pt x="12755" y="5278"/>
                  <a:pt x="12774" y="5308"/>
                </a:cubicBezTo>
                <a:cubicBezTo>
                  <a:pt x="12790" y="5333"/>
                  <a:pt x="12820" y="5453"/>
                  <a:pt x="12824" y="5482"/>
                </a:cubicBezTo>
                <a:cubicBezTo>
                  <a:pt x="12836" y="5581"/>
                  <a:pt x="12827" y="5685"/>
                  <a:pt x="12799" y="5779"/>
                </a:cubicBezTo>
                <a:cubicBezTo>
                  <a:pt x="12778" y="5851"/>
                  <a:pt x="12749" y="5948"/>
                  <a:pt x="12700" y="6003"/>
                </a:cubicBezTo>
                <a:cubicBezTo>
                  <a:pt x="12654" y="6055"/>
                  <a:pt x="12594" y="6129"/>
                  <a:pt x="12526" y="6152"/>
                </a:cubicBezTo>
                <a:cubicBezTo>
                  <a:pt x="12482" y="6167"/>
                  <a:pt x="12433" y="6155"/>
                  <a:pt x="12402" y="6127"/>
                </a:cubicBezTo>
                <a:cubicBezTo>
                  <a:pt x="12356" y="6085"/>
                  <a:pt x="12332" y="6065"/>
                  <a:pt x="12328" y="6003"/>
                </a:cubicBezTo>
                <a:cubicBezTo>
                  <a:pt x="12325" y="5944"/>
                  <a:pt x="12363" y="5898"/>
                  <a:pt x="12402" y="5854"/>
                </a:cubicBezTo>
                <a:cubicBezTo>
                  <a:pt x="12456" y="5793"/>
                  <a:pt x="12525" y="5841"/>
                  <a:pt x="12576" y="5879"/>
                </a:cubicBezTo>
                <a:cubicBezTo>
                  <a:pt x="12608" y="5903"/>
                  <a:pt x="12639" y="5969"/>
                  <a:pt x="12650" y="6003"/>
                </a:cubicBezTo>
                <a:cubicBezTo>
                  <a:pt x="12650" y="6031"/>
                  <a:pt x="12652" y="6037"/>
                  <a:pt x="12675" y="6003"/>
                </a:cubicBezTo>
              </a:path>
              <a:path w="12825" h="2804">
                <a:moveTo>
                  <a:pt x="12948" y="5829"/>
                </a:moveTo>
                <a:cubicBezTo>
                  <a:pt x="12948" y="5821"/>
                  <a:pt x="12948" y="5812"/>
                  <a:pt x="12948" y="5804"/>
                </a:cubicBezTo>
              </a:path>
              <a:path w="12825" h="2804">
                <a:moveTo>
                  <a:pt x="13295" y="5283"/>
                </a:moveTo>
                <a:cubicBezTo>
                  <a:pt x="13270" y="5377"/>
                  <a:pt x="13250" y="5484"/>
                  <a:pt x="13246" y="5581"/>
                </a:cubicBezTo>
                <a:cubicBezTo>
                  <a:pt x="13240" y="5730"/>
                  <a:pt x="13159" y="6099"/>
                  <a:pt x="13246" y="5978"/>
                </a:cubicBezTo>
                <a:cubicBezTo>
                  <a:pt x="13254" y="5970"/>
                  <a:pt x="13263" y="5961"/>
                  <a:pt x="13271" y="5953"/>
                </a:cubicBezTo>
              </a:path>
              <a:path w="12825" h="2804">
                <a:moveTo>
                  <a:pt x="13667" y="5631"/>
                </a:moveTo>
                <a:lnTo>
                  <a:pt x="13667" y="5631"/>
                </a:lnTo>
              </a:path>
              <a:path w="12825" h="2804">
                <a:moveTo>
                  <a:pt x="14114" y="5283"/>
                </a:moveTo>
                <a:cubicBezTo>
                  <a:pt x="14114" y="5361"/>
                  <a:pt x="14067" y="5352"/>
                  <a:pt x="14039" y="5432"/>
                </a:cubicBezTo>
                <a:cubicBezTo>
                  <a:pt x="14026" y="5468"/>
                  <a:pt x="13994" y="5520"/>
                  <a:pt x="13990" y="5556"/>
                </a:cubicBezTo>
                <a:cubicBezTo>
                  <a:pt x="13990" y="5581"/>
                  <a:pt x="13990" y="5589"/>
                  <a:pt x="13990" y="5606"/>
                </a:cubicBezTo>
                <a:cubicBezTo>
                  <a:pt x="14045" y="5606"/>
                  <a:pt x="14061" y="5594"/>
                  <a:pt x="14114" y="5581"/>
                </a:cubicBezTo>
                <a:cubicBezTo>
                  <a:pt x="14170" y="5567"/>
                  <a:pt x="14196" y="5547"/>
                  <a:pt x="14238" y="5507"/>
                </a:cubicBezTo>
              </a:path>
              <a:path w="12825" h="2804">
                <a:moveTo>
                  <a:pt x="14238" y="5184"/>
                </a:moveTo>
                <a:cubicBezTo>
                  <a:pt x="14238" y="5416"/>
                  <a:pt x="14238" y="5647"/>
                  <a:pt x="14238" y="5879"/>
                </a:cubicBezTo>
              </a:path>
              <a:path w="12825" h="2804">
                <a:moveTo>
                  <a:pt x="14461" y="5680"/>
                </a:moveTo>
                <a:cubicBezTo>
                  <a:pt x="14461" y="5672"/>
                  <a:pt x="14461" y="5663"/>
                  <a:pt x="14461" y="5655"/>
                </a:cubicBezTo>
              </a:path>
              <a:path w="12825" h="2804">
                <a:moveTo>
                  <a:pt x="14635" y="5283"/>
                </a:moveTo>
                <a:cubicBezTo>
                  <a:pt x="14701" y="5250"/>
                  <a:pt x="14736" y="5234"/>
                  <a:pt x="14808" y="5234"/>
                </a:cubicBezTo>
                <a:cubicBezTo>
                  <a:pt x="14888" y="5234"/>
                  <a:pt x="14883" y="5269"/>
                  <a:pt x="14883" y="5333"/>
                </a:cubicBezTo>
                <a:cubicBezTo>
                  <a:pt x="14883" y="5399"/>
                  <a:pt x="14879" y="5411"/>
                  <a:pt x="14833" y="5457"/>
                </a:cubicBezTo>
                <a:cubicBezTo>
                  <a:pt x="14800" y="5490"/>
                  <a:pt x="14762" y="5522"/>
                  <a:pt x="14734" y="5531"/>
                </a:cubicBezTo>
                <a:cubicBezTo>
                  <a:pt x="14790" y="5476"/>
                  <a:pt x="14774" y="5487"/>
                  <a:pt x="14833" y="5507"/>
                </a:cubicBezTo>
                <a:cubicBezTo>
                  <a:pt x="14851" y="5513"/>
                  <a:pt x="14911" y="5579"/>
                  <a:pt x="14908" y="5606"/>
                </a:cubicBezTo>
                <a:cubicBezTo>
                  <a:pt x="14903" y="5651"/>
                  <a:pt x="14855" y="5734"/>
                  <a:pt x="14808" y="5755"/>
                </a:cubicBezTo>
                <a:cubicBezTo>
                  <a:pt x="14775" y="5770"/>
                  <a:pt x="14749" y="5779"/>
                  <a:pt x="14709" y="5779"/>
                </a:cubicBezTo>
                <a:cubicBezTo>
                  <a:pt x="14678" y="5779"/>
                  <a:pt x="14602" y="5780"/>
                  <a:pt x="14585" y="5755"/>
                </a:cubicBezTo>
                <a:cubicBezTo>
                  <a:pt x="14585" y="5727"/>
                  <a:pt x="14587" y="5716"/>
                  <a:pt x="14610" y="5705"/>
                </a:cubicBezTo>
              </a:path>
              <a:path w="12825" h="2804">
                <a:moveTo>
                  <a:pt x="15007" y="5531"/>
                </a:moveTo>
                <a:cubicBezTo>
                  <a:pt x="15007" y="5523"/>
                  <a:pt x="15007" y="5515"/>
                  <a:pt x="15007" y="5507"/>
                </a:cubicBezTo>
              </a:path>
              <a:path w="12825" h="2804">
                <a:moveTo>
                  <a:pt x="15304" y="5209"/>
                </a:moveTo>
                <a:cubicBezTo>
                  <a:pt x="15347" y="5177"/>
                  <a:pt x="15373" y="5184"/>
                  <a:pt x="15429" y="5184"/>
                </a:cubicBezTo>
                <a:cubicBezTo>
                  <a:pt x="15495" y="5184"/>
                  <a:pt x="15500" y="5257"/>
                  <a:pt x="15503" y="5308"/>
                </a:cubicBezTo>
                <a:cubicBezTo>
                  <a:pt x="15508" y="5391"/>
                  <a:pt x="15489" y="5434"/>
                  <a:pt x="15453" y="5507"/>
                </a:cubicBezTo>
                <a:cubicBezTo>
                  <a:pt x="15418" y="5578"/>
                  <a:pt x="15386" y="5624"/>
                  <a:pt x="15329" y="5680"/>
                </a:cubicBezTo>
                <a:cubicBezTo>
                  <a:pt x="15310" y="5699"/>
                  <a:pt x="15266" y="5754"/>
                  <a:pt x="15255" y="5779"/>
                </a:cubicBezTo>
                <a:cubicBezTo>
                  <a:pt x="15255" y="5787"/>
                  <a:pt x="15255" y="5796"/>
                  <a:pt x="15255" y="5804"/>
                </a:cubicBezTo>
                <a:cubicBezTo>
                  <a:pt x="15283" y="5825"/>
                  <a:pt x="15339" y="5865"/>
                  <a:pt x="15379" y="5854"/>
                </a:cubicBezTo>
                <a:cubicBezTo>
                  <a:pt x="15431" y="5840"/>
                  <a:pt x="15507" y="5835"/>
                  <a:pt x="15553" y="5804"/>
                </a:cubicBezTo>
                <a:cubicBezTo>
                  <a:pt x="15561" y="5796"/>
                  <a:pt x="15569" y="5787"/>
                  <a:pt x="15577" y="5779"/>
                </a:cubicBezTo>
              </a:path>
              <a:path w="12825" h="2804">
                <a:moveTo>
                  <a:pt x="15602" y="5507"/>
                </a:moveTo>
                <a:cubicBezTo>
                  <a:pt x="15619" y="5499"/>
                  <a:pt x="15635" y="5490"/>
                  <a:pt x="15652" y="5482"/>
                </a:cubicBezTo>
              </a:path>
              <a:path w="12825" h="2804">
                <a:moveTo>
                  <a:pt x="16024" y="5110"/>
                </a:moveTo>
                <a:cubicBezTo>
                  <a:pt x="16016" y="5221"/>
                  <a:pt x="15999" y="5318"/>
                  <a:pt x="15999" y="5432"/>
                </a:cubicBezTo>
                <a:cubicBezTo>
                  <a:pt x="15999" y="5509"/>
                  <a:pt x="16011" y="5568"/>
                  <a:pt x="16024" y="5631"/>
                </a:cubicBezTo>
                <a:cubicBezTo>
                  <a:pt x="16025" y="5636"/>
                  <a:pt x="16043" y="5761"/>
                  <a:pt x="16049" y="5755"/>
                </a:cubicBezTo>
                <a:cubicBezTo>
                  <a:pt x="16049" y="5730"/>
                  <a:pt x="16049" y="5722"/>
                  <a:pt x="16073" y="5730"/>
                </a:cubicBezTo>
              </a:path>
              <a:path w="12825" h="2804">
                <a:moveTo>
                  <a:pt x="14039" y="5457"/>
                </a:moveTo>
                <a:cubicBezTo>
                  <a:pt x="14223" y="5457"/>
                  <a:pt x="14403" y="5445"/>
                  <a:pt x="14585" y="5432"/>
                </a:cubicBezTo>
                <a:cubicBezTo>
                  <a:pt x="15037" y="5400"/>
                  <a:pt x="15505" y="5483"/>
                  <a:pt x="15949" y="5457"/>
                </a:cubicBezTo>
                <a:cubicBezTo>
                  <a:pt x="15952" y="5457"/>
                  <a:pt x="16130" y="5418"/>
                  <a:pt x="16123" y="5407"/>
                </a:cubicBezTo>
                <a:cubicBezTo>
                  <a:pt x="16101" y="5373"/>
                  <a:pt x="16068" y="5403"/>
                  <a:pt x="16049" y="5407"/>
                </a:cubicBezTo>
                <a:cubicBezTo>
                  <a:pt x="16041" y="5407"/>
                  <a:pt x="16032" y="5407"/>
                  <a:pt x="16024" y="5407"/>
                </a:cubicBezTo>
              </a:path>
              <a:path w="12825" h="2804">
                <a:moveTo>
                  <a:pt x="14337" y="4316"/>
                </a:moveTo>
                <a:cubicBezTo>
                  <a:pt x="14393" y="4316"/>
                  <a:pt x="14435" y="4298"/>
                  <a:pt x="14486" y="4291"/>
                </a:cubicBezTo>
                <a:cubicBezTo>
                  <a:pt x="14656" y="4269"/>
                  <a:pt x="14835" y="4246"/>
                  <a:pt x="15007" y="4242"/>
                </a:cubicBezTo>
                <a:cubicBezTo>
                  <a:pt x="15223" y="4237"/>
                  <a:pt x="15435" y="4217"/>
                  <a:pt x="15652" y="4217"/>
                </a:cubicBezTo>
                <a:cubicBezTo>
                  <a:pt x="15790" y="4217"/>
                  <a:pt x="15919" y="4213"/>
                  <a:pt x="16049" y="4192"/>
                </a:cubicBezTo>
                <a:cubicBezTo>
                  <a:pt x="16113" y="4182"/>
                  <a:pt x="16120" y="4199"/>
                  <a:pt x="16173" y="4167"/>
                </a:cubicBezTo>
                <a:cubicBezTo>
                  <a:pt x="16173" y="4142"/>
                  <a:pt x="16173" y="4134"/>
                  <a:pt x="16173" y="4167"/>
                </a:cubicBezTo>
              </a:path>
              <a:path w="12825" h="2804">
                <a:moveTo>
                  <a:pt x="16966" y="4589"/>
                </a:moveTo>
                <a:cubicBezTo>
                  <a:pt x="17039" y="4589"/>
                  <a:pt x="17097" y="4603"/>
                  <a:pt x="17165" y="4614"/>
                </a:cubicBezTo>
                <a:cubicBezTo>
                  <a:pt x="17229" y="4625"/>
                  <a:pt x="17299" y="4635"/>
                  <a:pt x="17363" y="4638"/>
                </a:cubicBezTo>
                <a:cubicBezTo>
                  <a:pt x="17367" y="4638"/>
                  <a:pt x="17518" y="4651"/>
                  <a:pt x="17438" y="4663"/>
                </a:cubicBezTo>
                <a:cubicBezTo>
                  <a:pt x="17430" y="4663"/>
                  <a:pt x="17421" y="4663"/>
                  <a:pt x="17413" y="4663"/>
                </a:cubicBezTo>
              </a:path>
              <a:path w="12825" h="2804">
                <a:moveTo>
                  <a:pt x="16942" y="4862"/>
                </a:moveTo>
                <a:cubicBezTo>
                  <a:pt x="16989" y="4869"/>
                  <a:pt x="17043" y="4872"/>
                  <a:pt x="17090" y="4887"/>
                </a:cubicBezTo>
                <a:cubicBezTo>
                  <a:pt x="17162" y="4910"/>
                  <a:pt x="17243" y="4913"/>
                  <a:pt x="17314" y="4936"/>
                </a:cubicBezTo>
                <a:cubicBezTo>
                  <a:pt x="17366" y="4953"/>
                  <a:pt x="17416" y="4971"/>
                  <a:pt x="17462" y="4986"/>
                </a:cubicBezTo>
                <a:cubicBezTo>
                  <a:pt x="17487" y="4986"/>
                  <a:pt x="17495" y="4986"/>
                  <a:pt x="17462" y="4986"/>
                </a:cubicBezTo>
              </a:path>
              <a:path w="12825" h="2804">
                <a:moveTo>
                  <a:pt x="18083" y="4440"/>
                </a:moveTo>
                <a:cubicBezTo>
                  <a:pt x="18083" y="4617"/>
                  <a:pt x="18084" y="4789"/>
                  <a:pt x="18107" y="4961"/>
                </a:cubicBezTo>
                <a:cubicBezTo>
                  <a:pt x="18122" y="5076"/>
                  <a:pt x="18109" y="5200"/>
                  <a:pt x="18083" y="5308"/>
                </a:cubicBezTo>
                <a:cubicBezTo>
                  <a:pt x="18072" y="5352"/>
                  <a:pt x="18101" y="5344"/>
                  <a:pt x="18058" y="5358"/>
                </a:cubicBezTo>
              </a:path>
              <a:path w="12825" h="2804">
                <a:moveTo>
                  <a:pt x="18529" y="4539"/>
                </a:moveTo>
                <a:cubicBezTo>
                  <a:pt x="18599" y="4518"/>
                  <a:pt x="18632" y="4514"/>
                  <a:pt x="18703" y="4514"/>
                </a:cubicBezTo>
                <a:cubicBezTo>
                  <a:pt x="18803" y="4514"/>
                  <a:pt x="18890" y="4515"/>
                  <a:pt x="18976" y="4490"/>
                </a:cubicBezTo>
                <a:cubicBezTo>
                  <a:pt x="19019" y="4477"/>
                  <a:pt x="19010" y="4509"/>
                  <a:pt x="19025" y="4465"/>
                </a:cubicBezTo>
              </a:path>
              <a:path w="12825" h="2804">
                <a:moveTo>
                  <a:pt x="18504" y="4564"/>
                </a:moveTo>
                <a:cubicBezTo>
                  <a:pt x="18485" y="4647"/>
                  <a:pt x="18461" y="4728"/>
                  <a:pt x="18455" y="4812"/>
                </a:cubicBezTo>
                <a:cubicBezTo>
                  <a:pt x="18451" y="4868"/>
                  <a:pt x="18448" y="4918"/>
                  <a:pt x="18479" y="4961"/>
                </a:cubicBezTo>
                <a:cubicBezTo>
                  <a:pt x="18505" y="4955"/>
                  <a:pt x="18548" y="4922"/>
                  <a:pt x="18554" y="4911"/>
                </a:cubicBezTo>
                <a:cubicBezTo>
                  <a:pt x="18569" y="4882"/>
                  <a:pt x="18589" y="4829"/>
                  <a:pt x="18628" y="4812"/>
                </a:cubicBezTo>
                <a:cubicBezTo>
                  <a:pt x="18672" y="4792"/>
                  <a:pt x="18698" y="4762"/>
                  <a:pt x="18752" y="4762"/>
                </a:cubicBezTo>
                <a:cubicBezTo>
                  <a:pt x="18818" y="4762"/>
                  <a:pt x="18832" y="4792"/>
                  <a:pt x="18876" y="4837"/>
                </a:cubicBezTo>
                <a:cubicBezTo>
                  <a:pt x="18915" y="4877"/>
                  <a:pt x="18936" y="4913"/>
                  <a:pt x="18951" y="4961"/>
                </a:cubicBezTo>
                <a:cubicBezTo>
                  <a:pt x="18964" y="5002"/>
                  <a:pt x="18998" y="5131"/>
                  <a:pt x="18976" y="5184"/>
                </a:cubicBezTo>
                <a:cubicBezTo>
                  <a:pt x="18957" y="5229"/>
                  <a:pt x="18911" y="5273"/>
                  <a:pt x="18876" y="5308"/>
                </a:cubicBezTo>
                <a:cubicBezTo>
                  <a:pt x="18804" y="5382"/>
                  <a:pt x="18702" y="5377"/>
                  <a:pt x="18604" y="5383"/>
                </a:cubicBezTo>
                <a:cubicBezTo>
                  <a:pt x="18535" y="5387"/>
                  <a:pt x="18477" y="5388"/>
                  <a:pt x="18479" y="5383"/>
                </a:cubicBezTo>
                <a:cubicBezTo>
                  <a:pt x="18479" y="5375"/>
                  <a:pt x="18479" y="5366"/>
                  <a:pt x="18479" y="53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27160" y="2714760"/>
            <a:ext cx="1758960" cy="938160"/>
          </a:xfrm>
          <a:custGeom>
            <a:avLst/>
            <a:gdLst/>
            <a:ahLst/>
            <a:rect l="l" t="t" r="r" b="b"/>
            <a:pathLst>
              <a:path w="4887" h="2605">
                <a:moveTo>
                  <a:pt x="5631" y="8781"/>
                </a:moveTo>
                <a:cubicBezTo>
                  <a:pt x="5703" y="8765"/>
                  <a:pt x="5751" y="8731"/>
                  <a:pt x="5829" y="8731"/>
                </a:cubicBezTo>
                <a:cubicBezTo>
                  <a:pt x="5887" y="8731"/>
                  <a:pt x="5945" y="8731"/>
                  <a:pt x="6003" y="8731"/>
                </a:cubicBezTo>
              </a:path>
              <a:path w="4887" h="2605">
                <a:moveTo>
                  <a:pt x="5680" y="8930"/>
                </a:moveTo>
                <a:cubicBezTo>
                  <a:pt x="5713" y="8954"/>
                  <a:pt x="5781" y="8935"/>
                  <a:pt x="5804" y="8954"/>
                </a:cubicBezTo>
                <a:cubicBezTo>
                  <a:pt x="5861" y="9002"/>
                  <a:pt x="5825" y="9004"/>
                  <a:pt x="5904" y="9004"/>
                </a:cubicBezTo>
              </a:path>
              <a:path w="4887" h="2605">
                <a:moveTo>
                  <a:pt x="6945" y="7987"/>
                </a:moveTo>
                <a:cubicBezTo>
                  <a:pt x="6969" y="7969"/>
                  <a:pt x="7007" y="7921"/>
                  <a:pt x="7020" y="7913"/>
                </a:cubicBezTo>
                <a:cubicBezTo>
                  <a:pt x="7068" y="7881"/>
                  <a:pt x="7035" y="7865"/>
                  <a:pt x="7020" y="7789"/>
                </a:cubicBezTo>
                <a:cubicBezTo>
                  <a:pt x="7012" y="7752"/>
                  <a:pt x="6997" y="7718"/>
                  <a:pt x="6970" y="7689"/>
                </a:cubicBezTo>
                <a:cubicBezTo>
                  <a:pt x="6927" y="7642"/>
                  <a:pt x="6909" y="7640"/>
                  <a:pt x="6846" y="7640"/>
                </a:cubicBezTo>
                <a:cubicBezTo>
                  <a:pt x="6796" y="7640"/>
                  <a:pt x="6785" y="7689"/>
                  <a:pt x="6747" y="7714"/>
                </a:cubicBezTo>
                <a:cubicBezTo>
                  <a:pt x="6677" y="7759"/>
                  <a:pt x="6661" y="7813"/>
                  <a:pt x="6623" y="7888"/>
                </a:cubicBezTo>
                <a:cubicBezTo>
                  <a:pt x="6599" y="7936"/>
                  <a:pt x="6577" y="8032"/>
                  <a:pt x="6598" y="8086"/>
                </a:cubicBezTo>
                <a:cubicBezTo>
                  <a:pt x="6626" y="8157"/>
                  <a:pt x="6652" y="8162"/>
                  <a:pt x="6697" y="8186"/>
                </a:cubicBezTo>
                <a:cubicBezTo>
                  <a:pt x="6740" y="8209"/>
                  <a:pt x="6771" y="8216"/>
                  <a:pt x="6821" y="8186"/>
                </a:cubicBezTo>
                <a:cubicBezTo>
                  <a:pt x="6867" y="8158"/>
                  <a:pt x="6918" y="8056"/>
                  <a:pt x="6945" y="8012"/>
                </a:cubicBezTo>
                <a:cubicBezTo>
                  <a:pt x="6968" y="7975"/>
                  <a:pt x="7008" y="7925"/>
                  <a:pt x="7020" y="7888"/>
                </a:cubicBezTo>
                <a:cubicBezTo>
                  <a:pt x="7020" y="7880"/>
                  <a:pt x="7020" y="7871"/>
                  <a:pt x="7020" y="7863"/>
                </a:cubicBezTo>
                <a:cubicBezTo>
                  <a:pt x="7020" y="7917"/>
                  <a:pt x="6998" y="7933"/>
                  <a:pt x="6995" y="7987"/>
                </a:cubicBezTo>
                <a:cubicBezTo>
                  <a:pt x="6989" y="8092"/>
                  <a:pt x="6986" y="8186"/>
                  <a:pt x="6970" y="8285"/>
                </a:cubicBezTo>
                <a:cubicBezTo>
                  <a:pt x="6956" y="8372"/>
                  <a:pt x="6970" y="8470"/>
                  <a:pt x="6970" y="8558"/>
                </a:cubicBezTo>
                <a:cubicBezTo>
                  <a:pt x="6981" y="8489"/>
                  <a:pt x="6989" y="8499"/>
                  <a:pt x="7045" y="8434"/>
                </a:cubicBezTo>
              </a:path>
              <a:path w="4887" h="2605">
                <a:moveTo>
                  <a:pt x="7541" y="7541"/>
                </a:moveTo>
                <a:cubicBezTo>
                  <a:pt x="7534" y="7621"/>
                  <a:pt x="7533" y="7710"/>
                  <a:pt x="7516" y="7789"/>
                </a:cubicBezTo>
                <a:cubicBezTo>
                  <a:pt x="7499" y="7870"/>
                  <a:pt x="7491" y="7928"/>
                  <a:pt x="7491" y="8012"/>
                </a:cubicBezTo>
                <a:cubicBezTo>
                  <a:pt x="7491" y="8090"/>
                  <a:pt x="7510" y="8158"/>
                  <a:pt x="7516" y="8235"/>
                </a:cubicBezTo>
                <a:cubicBezTo>
                  <a:pt x="7516" y="8243"/>
                  <a:pt x="7516" y="8252"/>
                  <a:pt x="7516" y="8260"/>
                </a:cubicBezTo>
              </a:path>
              <a:path w="4887" h="2605">
                <a:moveTo>
                  <a:pt x="7541" y="8508"/>
                </a:moveTo>
                <a:cubicBezTo>
                  <a:pt x="7541" y="8549"/>
                  <a:pt x="7532" y="8566"/>
                  <a:pt x="7565" y="8558"/>
                </a:cubicBezTo>
              </a:path>
              <a:path w="4887" h="2605">
                <a:moveTo>
                  <a:pt x="6474" y="8880"/>
                </a:moveTo>
                <a:cubicBezTo>
                  <a:pt x="6587" y="8880"/>
                  <a:pt x="6718" y="8849"/>
                  <a:pt x="6821" y="8855"/>
                </a:cubicBezTo>
                <a:cubicBezTo>
                  <a:pt x="6985" y="8864"/>
                  <a:pt x="7149" y="8880"/>
                  <a:pt x="7317" y="8880"/>
                </a:cubicBezTo>
                <a:cubicBezTo>
                  <a:pt x="7522" y="8880"/>
                  <a:pt x="7692" y="8905"/>
                  <a:pt x="7888" y="8930"/>
                </a:cubicBezTo>
                <a:cubicBezTo>
                  <a:pt x="8183" y="8967"/>
                  <a:pt x="9039" y="8862"/>
                  <a:pt x="8756" y="8954"/>
                </a:cubicBezTo>
                <a:cubicBezTo>
                  <a:pt x="8723" y="8954"/>
                  <a:pt x="8707" y="8954"/>
                  <a:pt x="8682" y="8954"/>
                </a:cubicBezTo>
              </a:path>
              <a:path w="4887" h="2605">
                <a:moveTo>
                  <a:pt x="6325" y="9376"/>
                </a:moveTo>
                <a:cubicBezTo>
                  <a:pt x="6468" y="9376"/>
                  <a:pt x="6620" y="9366"/>
                  <a:pt x="6747" y="9401"/>
                </a:cubicBezTo>
                <a:cubicBezTo>
                  <a:pt x="6794" y="9414"/>
                  <a:pt x="6759" y="9482"/>
                  <a:pt x="6747" y="9525"/>
                </a:cubicBezTo>
                <a:cubicBezTo>
                  <a:pt x="6725" y="9606"/>
                  <a:pt x="6685" y="9701"/>
                  <a:pt x="6672" y="9773"/>
                </a:cubicBezTo>
                <a:cubicBezTo>
                  <a:pt x="6655" y="9866"/>
                  <a:pt x="6672" y="9976"/>
                  <a:pt x="6672" y="10071"/>
                </a:cubicBezTo>
                <a:cubicBezTo>
                  <a:pt x="6700" y="10043"/>
                  <a:pt x="6709" y="10029"/>
                  <a:pt x="6697" y="9996"/>
                </a:cubicBezTo>
              </a:path>
              <a:path w="4887" h="2605">
                <a:moveTo>
                  <a:pt x="7094" y="9153"/>
                </a:moveTo>
                <a:cubicBezTo>
                  <a:pt x="7094" y="9376"/>
                  <a:pt x="7094" y="9600"/>
                  <a:pt x="7094" y="9823"/>
                </a:cubicBezTo>
              </a:path>
              <a:path w="4887" h="2605">
                <a:moveTo>
                  <a:pt x="7169" y="10046"/>
                </a:moveTo>
                <a:cubicBezTo>
                  <a:pt x="7177" y="10046"/>
                  <a:pt x="7185" y="10046"/>
                  <a:pt x="7193" y="10046"/>
                </a:cubicBezTo>
              </a:path>
              <a:path w="4887" h="2605">
                <a:moveTo>
                  <a:pt x="7739" y="9153"/>
                </a:moveTo>
                <a:cubicBezTo>
                  <a:pt x="7682" y="9251"/>
                  <a:pt x="7658" y="9346"/>
                  <a:pt x="7615" y="9451"/>
                </a:cubicBezTo>
                <a:cubicBezTo>
                  <a:pt x="7584" y="9525"/>
                  <a:pt x="7550" y="9618"/>
                  <a:pt x="7541" y="9699"/>
                </a:cubicBezTo>
                <a:cubicBezTo>
                  <a:pt x="7533" y="9765"/>
                  <a:pt x="7537" y="9916"/>
                  <a:pt x="7565" y="9971"/>
                </a:cubicBezTo>
                <a:cubicBezTo>
                  <a:pt x="7570" y="9981"/>
                  <a:pt x="7632" y="10046"/>
                  <a:pt x="7640" y="10071"/>
                </a:cubicBezTo>
                <a:cubicBezTo>
                  <a:pt x="7660" y="10136"/>
                  <a:pt x="7639" y="10120"/>
                  <a:pt x="7714" y="10120"/>
                </a:cubicBezTo>
              </a:path>
              <a:path w="4887" h="2605">
                <a:moveTo>
                  <a:pt x="8186" y="9376"/>
                </a:moveTo>
                <a:cubicBezTo>
                  <a:pt x="8124" y="9298"/>
                  <a:pt x="8131" y="9320"/>
                  <a:pt x="8086" y="9252"/>
                </a:cubicBezTo>
                <a:cubicBezTo>
                  <a:pt x="7982" y="9297"/>
                  <a:pt x="7940" y="9300"/>
                  <a:pt x="7863" y="9376"/>
                </a:cubicBezTo>
                <a:cubicBezTo>
                  <a:pt x="7834" y="9404"/>
                  <a:pt x="7791" y="9450"/>
                  <a:pt x="7789" y="9475"/>
                </a:cubicBezTo>
                <a:cubicBezTo>
                  <a:pt x="7786" y="9518"/>
                  <a:pt x="7807" y="9591"/>
                  <a:pt x="7838" y="9599"/>
                </a:cubicBezTo>
                <a:cubicBezTo>
                  <a:pt x="7900" y="9614"/>
                  <a:pt x="7902" y="9617"/>
                  <a:pt x="7962" y="9599"/>
                </a:cubicBezTo>
                <a:cubicBezTo>
                  <a:pt x="8018" y="9582"/>
                  <a:pt x="8038" y="9573"/>
                  <a:pt x="8086" y="9525"/>
                </a:cubicBezTo>
                <a:cubicBezTo>
                  <a:pt x="8114" y="9497"/>
                  <a:pt x="8150" y="9489"/>
                  <a:pt x="8161" y="9451"/>
                </a:cubicBezTo>
                <a:cubicBezTo>
                  <a:pt x="8161" y="9434"/>
                  <a:pt x="8161" y="9418"/>
                  <a:pt x="8161" y="9401"/>
                </a:cubicBezTo>
                <a:cubicBezTo>
                  <a:pt x="8161" y="9332"/>
                  <a:pt x="8136" y="9513"/>
                  <a:pt x="8136" y="9525"/>
                </a:cubicBezTo>
                <a:cubicBezTo>
                  <a:pt x="8133" y="9614"/>
                  <a:pt x="8147" y="9698"/>
                  <a:pt x="8161" y="9773"/>
                </a:cubicBezTo>
                <a:cubicBezTo>
                  <a:pt x="8174" y="9840"/>
                  <a:pt x="8181" y="9908"/>
                  <a:pt x="8186" y="9971"/>
                </a:cubicBezTo>
                <a:cubicBezTo>
                  <a:pt x="8189" y="10007"/>
                  <a:pt x="8176" y="9983"/>
                  <a:pt x="8210" y="9971"/>
                </a:cubicBezTo>
              </a:path>
              <a:path w="4887" h="2605">
                <a:moveTo>
                  <a:pt x="8359" y="9624"/>
                </a:moveTo>
                <a:cubicBezTo>
                  <a:pt x="8409" y="9611"/>
                  <a:pt x="8423" y="9599"/>
                  <a:pt x="8483" y="9599"/>
                </a:cubicBezTo>
                <a:cubicBezTo>
                  <a:pt x="8541" y="9599"/>
                  <a:pt x="8599" y="9599"/>
                  <a:pt x="8657" y="9599"/>
                </a:cubicBezTo>
              </a:path>
              <a:path w="4887" h="2605">
                <a:moveTo>
                  <a:pt x="8706" y="9327"/>
                </a:moveTo>
                <a:cubicBezTo>
                  <a:pt x="8832" y="9327"/>
                  <a:pt x="9018" y="9345"/>
                  <a:pt x="9103" y="9302"/>
                </a:cubicBezTo>
                <a:cubicBezTo>
                  <a:pt x="9138" y="9284"/>
                  <a:pt x="9093" y="9337"/>
                  <a:pt x="9079" y="9376"/>
                </a:cubicBezTo>
                <a:cubicBezTo>
                  <a:pt x="9054" y="9446"/>
                  <a:pt x="9043" y="9526"/>
                  <a:pt x="9029" y="9599"/>
                </a:cubicBezTo>
                <a:cubicBezTo>
                  <a:pt x="9015" y="9672"/>
                  <a:pt x="9009" y="9749"/>
                  <a:pt x="9004" y="9823"/>
                </a:cubicBezTo>
                <a:cubicBezTo>
                  <a:pt x="9004" y="9828"/>
                  <a:pt x="9025" y="9966"/>
                  <a:pt x="9029" y="9971"/>
                </a:cubicBezTo>
                <a:cubicBezTo>
                  <a:pt x="9037" y="9971"/>
                  <a:pt x="9046" y="9971"/>
                  <a:pt x="9054" y="9971"/>
                </a:cubicBezTo>
              </a:path>
              <a:path w="4887" h="2605">
                <a:moveTo>
                  <a:pt x="9079" y="9079"/>
                </a:moveTo>
                <a:cubicBezTo>
                  <a:pt x="9195" y="9178"/>
                  <a:pt x="9231" y="9247"/>
                  <a:pt x="9302" y="9376"/>
                </a:cubicBezTo>
                <a:cubicBezTo>
                  <a:pt x="9369" y="9497"/>
                  <a:pt x="9396" y="9608"/>
                  <a:pt x="9401" y="9748"/>
                </a:cubicBezTo>
                <a:cubicBezTo>
                  <a:pt x="9404" y="9834"/>
                  <a:pt x="9412" y="9925"/>
                  <a:pt x="9376" y="9996"/>
                </a:cubicBezTo>
                <a:cubicBezTo>
                  <a:pt x="9354" y="10040"/>
                  <a:pt x="9321" y="10110"/>
                  <a:pt x="9277" y="10120"/>
                </a:cubicBezTo>
                <a:cubicBezTo>
                  <a:pt x="9252" y="10120"/>
                  <a:pt x="9244" y="10120"/>
                  <a:pt x="9252" y="10145"/>
                </a:cubicBezTo>
                <a:cubicBezTo>
                  <a:pt x="9270" y="10090"/>
                  <a:pt x="9263" y="10153"/>
                  <a:pt x="9277" y="10071"/>
                </a:cubicBezTo>
              </a:path>
              <a:path w="4887" h="2605">
                <a:moveTo>
                  <a:pt x="9748" y="9079"/>
                </a:moveTo>
                <a:cubicBezTo>
                  <a:pt x="9748" y="9223"/>
                  <a:pt x="9753" y="9363"/>
                  <a:pt x="9773" y="9500"/>
                </a:cubicBezTo>
                <a:cubicBezTo>
                  <a:pt x="9784" y="9579"/>
                  <a:pt x="9773" y="9669"/>
                  <a:pt x="9773" y="9748"/>
                </a:cubicBezTo>
              </a:path>
              <a:path w="4887" h="2605">
                <a:moveTo>
                  <a:pt x="9773" y="10120"/>
                </a:moveTo>
                <a:cubicBezTo>
                  <a:pt x="9781" y="10120"/>
                  <a:pt x="9790" y="10120"/>
                  <a:pt x="9798" y="10120"/>
                </a:cubicBezTo>
              </a:path>
              <a:path w="4887" h="2605">
                <a:moveTo>
                  <a:pt x="10220" y="8781"/>
                </a:moveTo>
                <a:cubicBezTo>
                  <a:pt x="10359" y="8741"/>
                  <a:pt x="10382" y="8724"/>
                  <a:pt x="10468" y="8731"/>
                </a:cubicBezTo>
              </a:path>
              <a:path w="4887" h="2605">
                <a:moveTo>
                  <a:pt x="10319" y="8930"/>
                </a:moveTo>
                <a:cubicBezTo>
                  <a:pt x="10421" y="9014"/>
                  <a:pt x="10392" y="9004"/>
                  <a:pt x="10517" y="90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0960" y="2357280"/>
            <a:ext cx="2600280" cy="1231920"/>
          </a:xfrm>
          <a:custGeom>
            <a:avLst/>
            <a:gdLst/>
            <a:ahLst/>
            <a:rect l="l" t="t" r="r" b="b"/>
            <a:pathLst>
              <a:path w="7219" h="3424">
                <a:moveTo>
                  <a:pt x="11485" y="7838"/>
                </a:moveTo>
                <a:cubicBezTo>
                  <a:pt x="11485" y="7846"/>
                  <a:pt x="11485" y="7855"/>
                  <a:pt x="11485" y="7863"/>
                </a:cubicBezTo>
                <a:cubicBezTo>
                  <a:pt x="11521" y="7850"/>
                  <a:pt x="11509" y="7833"/>
                  <a:pt x="11509" y="7789"/>
                </a:cubicBezTo>
                <a:cubicBezTo>
                  <a:pt x="11509" y="7717"/>
                  <a:pt x="11501" y="7681"/>
                  <a:pt x="11485" y="7615"/>
                </a:cubicBezTo>
                <a:cubicBezTo>
                  <a:pt x="11474" y="7569"/>
                  <a:pt x="11463" y="7508"/>
                  <a:pt x="11435" y="7466"/>
                </a:cubicBezTo>
                <a:cubicBezTo>
                  <a:pt x="11414" y="7435"/>
                  <a:pt x="11347" y="7428"/>
                  <a:pt x="11311" y="7441"/>
                </a:cubicBezTo>
                <a:cubicBezTo>
                  <a:pt x="11246" y="7464"/>
                  <a:pt x="11169" y="7536"/>
                  <a:pt x="11137" y="7590"/>
                </a:cubicBezTo>
                <a:cubicBezTo>
                  <a:pt x="11106" y="7642"/>
                  <a:pt x="11092" y="7730"/>
                  <a:pt x="11088" y="7789"/>
                </a:cubicBezTo>
                <a:cubicBezTo>
                  <a:pt x="11086" y="7822"/>
                  <a:pt x="11103" y="7896"/>
                  <a:pt x="11137" y="7913"/>
                </a:cubicBezTo>
                <a:cubicBezTo>
                  <a:pt x="11189" y="7939"/>
                  <a:pt x="11209" y="7941"/>
                  <a:pt x="11261" y="7913"/>
                </a:cubicBezTo>
                <a:cubicBezTo>
                  <a:pt x="11340" y="7871"/>
                  <a:pt x="11359" y="7857"/>
                  <a:pt x="11410" y="7789"/>
                </a:cubicBezTo>
                <a:cubicBezTo>
                  <a:pt x="11436" y="7754"/>
                  <a:pt x="11465" y="7720"/>
                  <a:pt x="11485" y="7689"/>
                </a:cubicBezTo>
                <a:cubicBezTo>
                  <a:pt x="11493" y="7681"/>
                  <a:pt x="11501" y="7673"/>
                  <a:pt x="11509" y="7665"/>
                </a:cubicBezTo>
                <a:cubicBezTo>
                  <a:pt x="11499" y="7718"/>
                  <a:pt x="11499" y="7786"/>
                  <a:pt x="11485" y="7838"/>
                </a:cubicBezTo>
                <a:cubicBezTo>
                  <a:pt x="11461" y="7923"/>
                  <a:pt x="11460" y="7993"/>
                  <a:pt x="11460" y="8086"/>
                </a:cubicBezTo>
                <a:cubicBezTo>
                  <a:pt x="11460" y="8252"/>
                  <a:pt x="11427" y="8713"/>
                  <a:pt x="11485" y="8558"/>
                </a:cubicBezTo>
                <a:cubicBezTo>
                  <a:pt x="11485" y="8541"/>
                  <a:pt x="11485" y="8525"/>
                  <a:pt x="11485" y="8508"/>
                </a:cubicBezTo>
              </a:path>
              <a:path w="7219" h="3424">
                <a:moveTo>
                  <a:pt x="11807" y="8111"/>
                </a:moveTo>
                <a:cubicBezTo>
                  <a:pt x="11815" y="8111"/>
                  <a:pt x="11824" y="8111"/>
                  <a:pt x="11832" y="8111"/>
                </a:cubicBezTo>
              </a:path>
              <a:path w="7219" h="3424">
                <a:moveTo>
                  <a:pt x="12328" y="7739"/>
                </a:moveTo>
                <a:cubicBezTo>
                  <a:pt x="12375" y="7639"/>
                  <a:pt x="12401" y="7654"/>
                  <a:pt x="12353" y="7590"/>
                </a:cubicBezTo>
                <a:cubicBezTo>
                  <a:pt x="12289" y="7566"/>
                  <a:pt x="12248" y="7565"/>
                  <a:pt x="12179" y="7565"/>
                </a:cubicBezTo>
                <a:cubicBezTo>
                  <a:pt x="12098" y="7565"/>
                  <a:pt x="12022" y="7595"/>
                  <a:pt x="11956" y="7640"/>
                </a:cubicBezTo>
                <a:cubicBezTo>
                  <a:pt x="11915" y="7669"/>
                  <a:pt x="11931" y="7720"/>
                  <a:pt x="11931" y="7764"/>
                </a:cubicBezTo>
                <a:cubicBezTo>
                  <a:pt x="11931" y="7868"/>
                  <a:pt x="12011" y="7899"/>
                  <a:pt x="12055" y="7987"/>
                </a:cubicBezTo>
                <a:cubicBezTo>
                  <a:pt x="12102" y="8080"/>
                  <a:pt x="12145" y="8158"/>
                  <a:pt x="12179" y="8260"/>
                </a:cubicBezTo>
                <a:cubicBezTo>
                  <a:pt x="12199" y="8320"/>
                  <a:pt x="12245" y="8420"/>
                  <a:pt x="12229" y="8483"/>
                </a:cubicBezTo>
                <a:cubicBezTo>
                  <a:pt x="12221" y="8516"/>
                  <a:pt x="12197" y="8546"/>
                  <a:pt x="12179" y="8558"/>
                </a:cubicBezTo>
                <a:cubicBezTo>
                  <a:pt x="12106" y="8558"/>
                  <a:pt x="12079" y="8502"/>
                  <a:pt x="12055" y="8434"/>
                </a:cubicBezTo>
                <a:cubicBezTo>
                  <a:pt x="12036" y="8380"/>
                  <a:pt x="12059" y="8301"/>
                  <a:pt x="12080" y="8260"/>
                </a:cubicBezTo>
                <a:cubicBezTo>
                  <a:pt x="12126" y="8170"/>
                  <a:pt x="12158" y="8077"/>
                  <a:pt x="12204" y="7987"/>
                </a:cubicBezTo>
                <a:cubicBezTo>
                  <a:pt x="12231" y="7935"/>
                  <a:pt x="12265" y="7847"/>
                  <a:pt x="12278" y="7789"/>
                </a:cubicBezTo>
                <a:cubicBezTo>
                  <a:pt x="12288" y="7742"/>
                  <a:pt x="12303" y="7713"/>
                  <a:pt x="12303" y="7665"/>
                </a:cubicBezTo>
              </a:path>
              <a:path w="7219" h="3424">
                <a:moveTo>
                  <a:pt x="12477" y="8111"/>
                </a:moveTo>
                <a:cubicBezTo>
                  <a:pt x="12485" y="8119"/>
                  <a:pt x="12494" y="8128"/>
                  <a:pt x="12502" y="8136"/>
                </a:cubicBezTo>
              </a:path>
              <a:path w="7219" h="3424">
                <a:moveTo>
                  <a:pt x="12675" y="7516"/>
                </a:moveTo>
                <a:cubicBezTo>
                  <a:pt x="12767" y="7500"/>
                  <a:pt x="12834" y="7491"/>
                  <a:pt x="12923" y="7491"/>
                </a:cubicBezTo>
                <a:cubicBezTo>
                  <a:pt x="12948" y="7491"/>
                  <a:pt x="12973" y="7491"/>
                  <a:pt x="12998" y="7491"/>
                </a:cubicBezTo>
                <a:cubicBezTo>
                  <a:pt x="12998" y="7542"/>
                  <a:pt x="12997" y="7549"/>
                  <a:pt x="12973" y="7590"/>
                </a:cubicBezTo>
                <a:cubicBezTo>
                  <a:pt x="12931" y="7663"/>
                  <a:pt x="12933" y="7756"/>
                  <a:pt x="12898" y="7838"/>
                </a:cubicBezTo>
                <a:cubicBezTo>
                  <a:pt x="12850" y="7951"/>
                  <a:pt x="12855" y="8073"/>
                  <a:pt x="12824" y="8186"/>
                </a:cubicBezTo>
                <a:cubicBezTo>
                  <a:pt x="12809" y="8241"/>
                  <a:pt x="12784" y="8310"/>
                  <a:pt x="12774" y="8359"/>
                </a:cubicBezTo>
                <a:cubicBezTo>
                  <a:pt x="12763" y="8416"/>
                  <a:pt x="12790" y="8461"/>
                  <a:pt x="12799" y="8483"/>
                </a:cubicBezTo>
                <a:cubicBezTo>
                  <a:pt x="12799" y="8491"/>
                  <a:pt x="12799" y="8500"/>
                  <a:pt x="12799" y="8508"/>
                </a:cubicBezTo>
                <a:cubicBezTo>
                  <a:pt x="12829" y="8498"/>
                  <a:pt x="12857" y="8481"/>
                  <a:pt x="12874" y="8434"/>
                </a:cubicBezTo>
                <a:cubicBezTo>
                  <a:pt x="12874" y="8426"/>
                  <a:pt x="12874" y="8417"/>
                  <a:pt x="12874" y="8409"/>
                </a:cubicBezTo>
              </a:path>
              <a:path w="7219" h="3424">
                <a:moveTo>
                  <a:pt x="13072" y="8136"/>
                </a:moveTo>
                <a:lnTo>
                  <a:pt x="13072" y="8136"/>
                </a:lnTo>
              </a:path>
              <a:path w="7219" h="3424">
                <a:moveTo>
                  <a:pt x="13444" y="7466"/>
                </a:moveTo>
                <a:cubicBezTo>
                  <a:pt x="13503" y="7407"/>
                  <a:pt x="13407" y="7533"/>
                  <a:pt x="13395" y="7565"/>
                </a:cubicBezTo>
                <a:cubicBezTo>
                  <a:pt x="13345" y="7702"/>
                  <a:pt x="13284" y="7821"/>
                  <a:pt x="13246" y="7962"/>
                </a:cubicBezTo>
                <a:cubicBezTo>
                  <a:pt x="13211" y="8091"/>
                  <a:pt x="13203" y="8136"/>
                  <a:pt x="13221" y="8260"/>
                </a:cubicBezTo>
                <a:cubicBezTo>
                  <a:pt x="13233" y="8344"/>
                  <a:pt x="13257" y="8312"/>
                  <a:pt x="13295" y="8359"/>
                </a:cubicBezTo>
                <a:cubicBezTo>
                  <a:pt x="13303" y="8376"/>
                  <a:pt x="13312" y="8392"/>
                  <a:pt x="13320" y="8409"/>
                </a:cubicBezTo>
                <a:cubicBezTo>
                  <a:pt x="13353" y="8376"/>
                  <a:pt x="13421" y="8343"/>
                  <a:pt x="13444" y="8310"/>
                </a:cubicBezTo>
                <a:cubicBezTo>
                  <a:pt x="13480" y="8258"/>
                  <a:pt x="13498" y="8191"/>
                  <a:pt x="13519" y="8136"/>
                </a:cubicBezTo>
                <a:cubicBezTo>
                  <a:pt x="13538" y="8095"/>
                  <a:pt x="13557" y="8079"/>
                  <a:pt x="13519" y="8086"/>
                </a:cubicBezTo>
                <a:cubicBezTo>
                  <a:pt x="13471" y="8146"/>
                  <a:pt x="13423" y="8212"/>
                  <a:pt x="13395" y="8285"/>
                </a:cubicBezTo>
                <a:cubicBezTo>
                  <a:pt x="13378" y="8329"/>
                  <a:pt x="13400" y="8396"/>
                  <a:pt x="13419" y="8409"/>
                </a:cubicBezTo>
              </a:path>
              <a:path w="7219" h="3424">
                <a:moveTo>
                  <a:pt x="13915" y="7516"/>
                </a:moveTo>
                <a:cubicBezTo>
                  <a:pt x="14016" y="7479"/>
                  <a:pt x="14123" y="7471"/>
                  <a:pt x="14213" y="7441"/>
                </a:cubicBezTo>
              </a:path>
              <a:path w="7219" h="3424">
                <a:moveTo>
                  <a:pt x="13891" y="7541"/>
                </a:moveTo>
                <a:cubicBezTo>
                  <a:pt x="13859" y="7600"/>
                  <a:pt x="13787" y="7688"/>
                  <a:pt x="13816" y="7764"/>
                </a:cubicBezTo>
                <a:cubicBezTo>
                  <a:pt x="13831" y="7803"/>
                  <a:pt x="13884" y="7789"/>
                  <a:pt x="13915" y="7789"/>
                </a:cubicBezTo>
                <a:cubicBezTo>
                  <a:pt x="13958" y="7789"/>
                  <a:pt x="14011" y="7773"/>
                  <a:pt x="14039" y="7813"/>
                </a:cubicBezTo>
                <a:cubicBezTo>
                  <a:pt x="14105" y="7908"/>
                  <a:pt x="14078" y="7958"/>
                  <a:pt x="14064" y="8062"/>
                </a:cubicBezTo>
                <a:cubicBezTo>
                  <a:pt x="14053" y="8140"/>
                  <a:pt x="14037" y="8217"/>
                  <a:pt x="13990" y="8285"/>
                </a:cubicBezTo>
                <a:cubicBezTo>
                  <a:pt x="13961" y="8327"/>
                  <a:pt x="13906" y="8347"/>
                  <a:pt x="13866" y="8359"/>
                </a:cubicBezTo>
                <a:cubicBezTo>
                  <a:pt x="13817" y="8374"/>
                  <a:pt x="13806" y="8342"/>
                  <a:pt x="13791" y="8334"/>
                </a:cubicBezTo>
                <a:cubicBezTo>
                  <a:pt x="13757" y="8334"/>
                  <a:pt x="13753" y="8325"/>
                  <a:pt x="13791" y="8285"/>
                </a:cubicBezTo>
              </a:path>
              <a:path w="7219" h="3424">
                <a:moveTo>
                  <a:pt x="14312" y="7789"/>
                </a:moveTo>
                <a:cubicBezTo>
                  <a:pt x="14286" y="7861"/>
                  <a:pt x="14238" y="7923"/>
                  <a:pt x="14288" y="7987"/>
                </a:cubicBezTo>
                <a:cubicBezTo>
                  <a:pt x="14317" y="8024"/>
                  <a:pt x="14345" y="8012"/>
                  <a:pt x="14387" y="8012"/>
                </a:cubicBezTo>
              </a:path>
              <a:path w="7219" h="3424">
                <a:moveTo>
                  <a:pt x="14560" y="7441"/>
                </a:moveTo>
                <a:cubicBezTo>
                  <a:pt x="14560" y="7528"/>
                  <a:pt x="14543" y="7606"/>
                  <a:pt x="14536" y="7689"/>
                </a:cubicBezTo>
                <a:cubicBezTo>
                  <a:pt x="14524" y="7842"/>
                  <a:pt x="14504" y="7986"/>
                  <a:pt x="14461" y="8136"/>
                </a:cubicBezTo>
                <a:cubicBezTo>
                  <a:pt x="14434" y="8229"/>
                  <a:pt x="14436" y="8312"/>
                  <a:pt x="14436" y="8409"/>
                </a:cubicBezTo>
                <a:cubicBezTo>
                  <a:pt x="14436" y="8434"/>
                  <a:pt x="14436" y="8442"/>
                  <a:pt x="14461" y="8434"/>
                </a:cubicBezTo>
              </a:path>
              <a:path w="7219" h="3424">
                <a:moveTo>
                  <a:pt x="14784" y="7615"/>
                </a:moveTo>
                <a:cubicBezTo>
                  <a:pt x="14851" y="7556"/>
                  <a:pt x="14870" y="7541"/>
                  <a:pt x="14957" y="7541"/>
                </a:cubicBezTo>
                <a:cubicBezTo>
                  <a:pt x="15065" y="7541"/>
                  <a:pt x="15075" y="7634"/>
                  <a:pt x="15056" y="7714"/>
                </a:cubicBezTo>
                <a:cubicBezTo>
                  <a:pt x="15029" y="7830"/>
                  <a:pt x="14975" y="7836"/>
                  <a:pt x="14908" y="7913"/>
                </a:cubicBezTo>
                <a:cubicBezTo>
                  <a:pt x="14864" y="7964"/>
                  <a:pt x="14863" y="7954"/>
                  <a:pt x="14808" y="7987"/>
                </a:cubicBezTo>
                <a:cubicBezTo>
                  <a:pt x="14820" y="8010"/>
                  <a:pt x="14850" y="7987"/>
                  <a:pt x="14908" y="7987"/>
                </a:cubicBezTo>
                <a:cubicBezTo>
                  <a:pt x="14975" y="7987"/>
                  <a:pt x="15033" y="7982"/>
                  <a:pt x="15056" y="8062"/>
                </a:cubicBezTo>
                <a:cubicBezTo>
                  <a:pt x="15087" y="8167"/>
                  <a:pt x="15078" y="8261"/>
                  <a:pt x="15032" y="8359"/>
                </a:cubicBezTo>
                <a:cubicBezTo>
                  <a:pt x="15003" y="8420"/>
                  <a:pt x="14995" y="8434"/>
                  <a:pt x="14932" y="8434"/>
                </a:cubicBezTo>
                <a:cubicBezTo>
                  <a:pt x="14880" y="8434"/>
                  <a:pt x="14862" y="8371"/>
                  <a:pt x="14833" y="8334"/>
                </a:cubicBezTo>
              </a:path>
              <a:path w="7219" h="3424">
                <a:moveTo>
                  <a:pt x="15255" y="7590"/>
                </a:moveTo>
                <a:cubicBezTo>
                  <a:pt x="15352" y="7549"/>
                  <a:pt x="15389" y="7518"/>
                  <a:pt x="15478" y="7565"/>
                </a:cubicBezTo>
                <a:cubicBezTo>
                  <a:pt x="15590" y="7624"/>
                  <a:pt x="15604" y="7781"/>
                  <a:pt x="15577" y="7888"/>
                </a:cubicBezTo>
                <a:cubicBezTo>
                  <a:pt x="15549" y="7997"/>
                  <a:pt x="15502" y="8077"/>
                  <a:pt x="15429" y="8161"/>
                </a:cubicBezTo>
                <a:cubicBezTo>
                  <a:pt x="15386" y="8211"/>
                  <a:pt x="15275" y="8298"/>
                  <a:pt x="15255" y="8359"/>
                </a:cubicBezTo>
                <a:cubicBezTo>
                  <a:pt x="15238" y="8410"/>
                  <a:pt x="15260" y="8470"/>
                  <a:pt x="15280" y="8508"/>
                </a:cubicBezTo>
                <a:cubicBezTo>
                  <a:pt x="15318" y="8580"/>
                  <a:pt x="15349" y="8558"/>
                  <a:pt x="15429" y="8558"/>
                </a:cubicBezTo>
                <a:cubicBezTo>
                  <a:pt x="15540" y="8558"/>
                  <a:pt x="15579" y="8537"/>
                  <a:pt x="15677" y="8483"/>
                </a:cubicBezTo>
              </a:path>
              <a:path w="7219" h="3424">
                <a:moveTo>
                  <a:pt x="15850" y="7541"/>
                </a:moveTo>
                <a:cubicBezTo>
                  <a:pt x="15834" y="7735"/>
                  <a:pt x="15825" y="7917"/>
                  <a:pt x="15825" y="8111"/>
                </a:cubicBezTo>
                <a:cubicBezTo>
                  <a:pt x="15825" y="8264"/>
                  <a:pt x="15830" y="8368"/>
                  <a:pt x="15900" y="8508"/>
                </a:cubicBezTo>
                <a:cubicBezTo>
                  <a:pt x="15928" y="8565"/>
                  <a:pt x="15939" y="8588"/>
                  <a:pt x="15949" y="8632"/>
                </a:cubicBezTo>
              </a:path>
              <a:path w="7219" h="3424">
                <a:moveTo>
                  <a:pt x="12700" y="8136"/>
                </a:moveTo>
                <a:cubicBezTo>
                  <a:pt x="12751" y="8119"/>
                  <a:pt x="12815" y="8093"/>
                  <a:pt x="12874" y="8086"/>
                </a:cubicBezTo>
                <a:cubicBezTo>
                  <a:pt x="13073" y="8061"/>
                  <a:pt x="13294" y="8073"/>
                  <a:pt x="13494" y="8062"/>
                </a:cubicBezTo>
                <a:cubicBezTo>
                  <a:pt x="13798" y="8045"/>
                  <a:pt x="14111" y="8055"/>
                  <a:pt x="14412" y="8086"/>
                </a:cubicBezTo>
                <a:cubicBezTo>
                  <a:pt x="14686" y="8114"/>
                  <a:pt x="14956" y="8127"/>
                  <a:pt x="15230" y="8161"/>
                </a:cubicBezTo>
                <a:cubicBezTo>
                  <a:pt x="15428" y="8186"/>
                  <a:pt x="15627" y="8220"/>
                  <a:pt x="15825" y="8235"/>
                </a:cubicBezTo>
                <a:cubicBezTo>
                  <a:pt x="15920" y="8242"/>
                  <a:pt x="16034" y="8235"/>
                  <a:pt x="16123" y="8210"/>
                </a:cubicBezTo>
                <a:cubicBezTo>
                  <a:pt x="16173" y="8196"/>
                  <a:pt x="16164" y="8146"/>
                  <a:pt x="16173" y="8186"/>
                </a:cubicBezTo>
                <a:cubicBezTo>
                  <a:pt x="16178" y="8207"/>
                  <a:pt x="16125" y="8233"/>
                  <a:pt x="16123" y="8235"/>
                </a:cubicBezTo>
              </a:path>
              <a:path w="7219" h="3424">
                <a:moveTo>
                  <a:pt x="15032" y="9178"/>
                </a:moveTo>
                <a:cubicBezTo>
                  <a:pt x="15032" y="9194"/>
                  <a:pt x="15032" y="9211"/>
                  <a:pt x="15032" y="9227"/>
                </a:cubicBezTo>
                <a:cubicBezTo>
                  <a:pt x="14970" y="9227"/>
                  <a:pt x="14958" y="9269"/>
                  <a:pt x="14932" y="9302"/>
                </a:cubicBezTo>
                <a:cubicBezTo>
                  <a:pt x="14864" y="9390"/>
                  <a:pt x="14784" y="9416"/>
                  <a:pt x="14684" y="9475"/>
                </a:cubicBezTo>
                <a:cubicBezTo>
                  <a:pt x="14561" y="9548"/>
                  <a:pt x="14502" y="9667"/>
                  <a:pt x="14387" y="9748"/>
                </a:cubicBezTo>
                <a:cubicBezTo>
                  <a:pt x="14331" y="9788"/>
                  <a:pt x="14297" y="9880"/>
                  <a:pt x="14238" y="9897"/>
                </a:cubicBezTo>
                <a:cubicBezTo>
                  <a:pt x="14195" y="9910"/>
                  <a:pt x="14174" y="10014"/>
                  <a:pt x="14163" y="9971"/>
                </a:cubicBezTo>
                <a:cubicBezTo>
                  <a:pt x="14163" y="9930"/>
                  <a:pt x="14163" y="9922"/>
                  <a:pt x="14163" y="9897"/>
                </a:cubicBezTo>
              </a:path>
              <a:path w="7219" h="3424">
                <a:moveTo>
                  <a:pt x="12700" y="7243"/>
                </a:moveTo>
                <a:cubicBezTo>
                  <a:pt x="12708" y="7235"/>
                  <a:pt x="12717" y="7226"/>
                  <a:pt x="12725" y="7218"/>
                </a:cubicBezTo>
                <a:cubicBezTo>
                  <a:pt x="12717" y="7310"/>
                  <a:pt x="12704" y="7334"/>
                  <a:pt x="12650" y="7417"/>
                </a:cubicBezTo>
                <a:cubicBezTo>
                  <a:pt x="12572" y="7537"/>
                  <a:pt x="12498" y="7660"/>
                  <a:pt x="12402" y="7764"/>
                </a:cubicBezTo>
                <a:cubicBezTo>
                  <a:pt x="12303" y="7870"/>
                  <a:pt x="12216" y="7992"/>
                  <a:pt x="12129" y="8111"/>
                </a:cubicBezTo>
                <a:cubicBezTo>
                  <a:pt x="12037" y="8238"/>
                  <a:pt x="11931" y="8316"/>
                  <a:pt x="11832" y="8434"/>
                </a:cubicBezTo>
                <a:cubicBezTo>
                  <a:pt x="11804" y="8467"/>
                  <a:pt x="11779" y="8520"/>
                  <a:pt x="11757" y="8558"/>
                </a:cubicBezTo>
                <a:cubicBezTo>
                  <a:pt x="11781" y="8485"/>
                  <a:pt x="11790" y="8461"/>
                  <a:pt x="11782" y="8409"/>
                </a:cubicBezTo>
              </a:path>
              <a:path w="7219" h="3424">
                <a:moveTo>
                  <a:pt x="12105" y="6846"/>
                </a:moveTo>
                <a:cubicBezTo>
                  <a:pt x="12086" y="6912"/>
                  <a:pt x="12075" y="6995"/>
                  <a:pt x="12030" y="7045"/>
                </a:cubicBezTo>
                <a:cubicBezTo>
                  <a:pt x="12003" y="7075"/>
                  <a:pt x="11990" y="7106"/>
                  <a:pt x="11981" y="7144"/>
                </a:cubicBezTo>
                <a:cubicBezTo>
                  <a:pt x="12046" y="7144"/>
                  <a:pt x="12094" y="7129"/>
                  <a:pt x="12154" y="7119"/>
                </a:cubicBezTo>
                <a:cubicBezTo>
                  <a:pt x="12247" y="7103"/>
                  <a:pt x="12307" y="7105"/>
                  <a:pt x="12378" y="7045"/>
                </a:cubicBezTo>
                <a:cubicBezTo>
                  <a:pt x="12386" y="7037"/>
                  <a:pt x="12394" y="7028"/>
                  <a:pt x="12402" y="7020"/>
                </a:cubicBezTo>
              </a:path>
              <a:path w="7219" h="3424">
                <a:moveTo>
                  <a:pt x="12328" y="6548"/>
                </a:moveTo>
                <a:cubicBezTo>
                  <a:pt x="12287" y="6737"/>
                  <a:pt x="12278" y="6878"/>
                  <a:pt x="12278" y="7069"/>
                </a:cubicBezTo>
                <a:cubicBezTo>
                  <a:pt x="12278" y="7183"/>
                  <a:pt x="12298" y="7281"/>
                  <a:pt x="12303" y="7392"/>
                </a:cubicBezTo>
                <a:cubicBezTo>
                  <a:pt x="12306" y="7452"/>
                  <a:pt x="12322" y="7491"/>
                  <a:pt x="12328" y="7541"/>
                </a:cubicBezTo>
                <a:cubicBezTo>
                  <a:pt x="12332" y="7574"/>
                  <a:pt x="12273" y="7600"/>
                  <a:pt x="12303" y="7615"/>
                </a:cubicBezTo>
                <a:cubicBezTo>
                  <a:pt x="12342" y="7634"/>
                  <a:pt x="12292" y="7615"/>
                  <a:pt x="12254" y="7615"/>
                </a:cubicBezTo>
              </a:path>
              <a:path w="7219" h="3424">
                <a:moveTo>
                  <a:pt x="16570" y="8880"/>
                </a:moveTo>
                <a:cubicBezTo>
                  <a:pt x="16677" y="8923"/>
                  <a:pt x="16705" y="8930"/>
                  <a:pt x="16818" y="8930"/>
                </a:cubicBezTo>
              </a:path>
              <a:path w="7219" h="3424">
                <a:moveTo>
                  <a:pt x="16545" y="9178"/>
                </a:moveTo>
                <a:cubicBezTo>
                  <a:pt x="16693" y="9215"/>
                  <a:pt x="16708" y="9231"/>
                  <a:pt x="16793" y="9227"/>
                </a:cubicBezTo>
              </a:path>
              <a:path w="7219" h="3424">
                <a:moveTo>
                  <a:pt x="17264" y="8434"/>
                </a:moveTo>
                <a:cubicBezTo>
                  <a:pt x="17337" y="8373"/>
                  <a:pt x="17411" y="8286"/>
                  <a:pt x="17512" y="8359"/>
                </a:cubicBezTo>
                <a:cubicBezTo>
                  <a:pt x="17571" y="8402"/>
                  <a:pt x="17614" y="8449"/>
                  <a:pt x="17587" y="8508"/>
                </a:cubicBezTo>
                <a:cubicBezTo>
                  <a:pt x="17556" y="8575"/>
                  <a:pt x="17513" y="8676"/>
                  <a:pt x="17462" y="8706"/>
                </a:cubicBezTo>
                <a:cubicBezTo>
                  <a:pt x="17454" y="8711"/>
                  <a:pt x="17350" y="8730"/>
                  <a:pt x="17338" y="8731"/>
                </a:cubicBezTo>
                <a:cubicBezTo>
                  <a:pt x="17314" y="8731"/>
                  <a:pt x="17306" y="8731"/>
                  <a:pt x="17338" y="8731"/>
                </a:cubicBezTo>
                <a:cubicBezTo>
                  <a:pt x="17448" y="8731"/>
                  <a:pt x="17526" y="8713"/>
                  <a:pt x="17611" y="8781"/>
                </a:cubicBezTo>
                <a:cubicBezTo>
                  <a:pt x="17661" y="8820"/>
                  <a:pt x="17694" y="8949"/>
                  <a:pt x="17661" y="9004"/>
                </a:cubicBezTo>
                <a:cubicBezTo>
                  <a:pt x="17627" y="9061"/>
                  <a:pt x="17538" y="9130"/>
                  <a:pt x="17487" y="9153"/>
                </a:cubicBezTo>
                <a:cubicBezTo>
                  <a:pt x="17417" y="9184"/>
                  <a:pt x="17401" y="9180"/>
                  <a:pt x="17338" y="9227"/>
                </a:cubicBezTo>
                <a:cubicBezTo>
                  <a:pt x="17292" y="9157"/>
                  <a:pt x="17257" y="9167"/>
                  <a:pt x="17214" y="9079"/>
                </a:cubicBezTo>
                <a:cubicBezTo>
                  <a:pt x="17193" y="9035"/>
                  <a:pt x="17180" y="9024"/>
                  <a:pt x="17214" y="9004"/>
                </a:cubicBezTo>
              </a:path>
              <a:path w="7219" h="3424">
                <a:moveTo>
                  <a:pt x="17909" y="8310"/>
                </a:moveTo>
                <a:cubicBezTo>
                  <a:pt x="17909" y="8423"/>
                  <a:pt x="17917" y="8524"/>
                  <a:pt x="17884" y="8632"/>
                </a:cubicBezTo>
                <a:cubicBezTo>
                  <a:pt x="17840" y="8776"/>
                  <a:pt x="17811" y="8868"/>
                  <a:pt x="17884" y="9004"/>
                </a:cubicBezTo>
                <a:cubicBezTo>
                  <a:pt x="17931" y="9091"/>
                  <a:pt x="17968" y="9179"/>
                  <a:pt x="18058" y="9227"/>
                </a:cubicBezTo>
                <a:cubicBezTo>
                  <a:pt x="18132" y="9266"/>
                  <a:pt x="18175" y="9199"/>
                  <a:pt x="18207" y="9153"/>
                </a:cubicBezTo>
                <a:cubicBezTo>
                  <a:pt x="18267" y="9069"/>
                  <a:pt x="18314" y="9025"/>
                  <a:pt x="18281" y="8930"/>
                </a:cubicBezTo>
                <a:cubicBezTo>
                  <a:pt x="18254" y="8855"/>
                  <a:pt x="18228" y="8855"/>
                  <a:pt x="18157" y="8855"/>
                </a:cubicBezTo>
                <a:cubicBezTo>
                  <a:pt x="18104" y="8855"/>
                  <a:pt x="18000" y="8946"/>
                  <a:pt x="17983" y="9004"/>
                </a:cubicBezTo>
                <a:cubicBezTo>
                  <a:pt x="17954" y="9102"/>
                  <a:pt x="17959" y="9224"/>
                  <a:pt x="17959" y="9327"/>
                </a:cubicBezTo>
                <a:cubicBezTo>
                  <a:pt x="17959" y="9352"/>
                  <a:pt x="17959" y="9376"/>
                  <a:pt x="17959" y="94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7760" y="3348000"/>
            <a:ext cx="1670040" cy="295200"/>
          </a:xfrm>
          <a:custGeom>
            <a:avLst/>
            <a:gdLst/>
            <a:ahLst/>
            <a:rect l="l" t="t" r="r" b="b"/>
            <a:pathLst>
              <a:path w="4639" h="819">
                <a:moveTo>
                  <a:pt x="10716" y="9451"/>
                </a:moveTo>
                <a:cubicBezTo>
                  <a:pt x="10840" y="9451"/>
                  <a:pt x="10964" y="9451"/>
                  <a:pt x="11088" y="9451"/>
                </a:cubicBezTo>
                <a:cubicBezTo>
                  <a:pt x="11088" y="9501"/>
                  <a:pt x="11075" y="9550"/>
                  <a:pt x="11063" y="9599"/>
                </a:cubicBezTo>
                <a:cubicBezTo>
                  <a:pt x="11044" y="9680"/>
                  <a:pt x="10998" y="9741"/>
                  <a:pt x="10988" y="9823"/>
                </a:cubicBezTo>
                <a:cubicBezTo>
                  <a:pt x="10978" y="9900"/>
                  <a:pt x="11008" y="9927"/>
                  <a:pt x="11013" y="9996"/>
                </a:cubicBezTo>
                <a:cubicBezTo>
                  <a:pt x="11018" y="10064"/>
                  <a:pt x="11010" y="10056"/>
                  <a:pt x="11038" y="10120"/>
                </a:cubicBezTo>
                <a:cubicBezTo>
                  <a:pt x="11038" y="10076"/>
                  <a:pt x="11035" y="10062"/>
                  <a:pt x="11063" y="10046"/>
                </a:cubicBezTo>
              </a:path>
              <a:path w="4639" h="819">
                <a:moveTo>
                  <a:pt x="11361" y="9451"/>
                </a:moveTo>
                <a:cubicBezTo>
                  <a:pt x="11327" y="9536"/>
                  <a:pt x="11291" y="9614"/>
                  <a:pt x="11261" y="9699"/>
                </a:cubicBezTo>
                <a:cubicBezTo>
                  <a:pt x="11240" y="9758"/>
                  <a:pt x="11209" y="9908"/>
                  <a:pt x="11237" y="9971"/>
                </a:cubicBezTo>
                <a:cubicBezTo>
                  <a:pt x="11255" y="10011"/>
                  <a:pt x="11288" y="10029"/>
                  <a:pt x="11336" y="10046"/>
                </a:cubicBezTo>
                <a:cubicBezTo>
                  <a:pt x="11382" y="10063"/>
                  <a:pt x="11469" y="10084"/>
                  <a:pt x="11509" y="10046"/>
                </a:cubicBezTo>
                <a:cubicBezTo>
                  <a:pt x="11563" y="9995"/>
                  <a:pt x="11638" y="9910"/>
                  <a:pt x="11609" y="9823"/>
                </a:cubicBezTo>
                <a:cubicBezTo>
                  <a:pt x="11584" y="9823"/>
                  <a:pt x="11576" y="9823"/>
                  <a:pt x="11559" y="9823"/>
                </a:cubicBezTo>
                <a:cubicBezTo>
                  <a:pt x="11528" y="9861"/>
                  <a:pt x="11492" y="9920"/>
                  <a:pt x="11485" y="9971"/>
                </a:cubicBezTo>
                <a:cubicBezTo>
                  <a:pt x="11473" y="10061"/>
                  <a:pt x="11484" y="10033"/>
                  <a:pt x="11534" y="10071"/>
                </a:cubicBezTo>
              </a:path>
              <a:path w="4639" h="819">
                <a:moveTo>
                  <a:pt x="11881" y="9451"/>
                </a:moveTo>
                <a:cubicBezTo>
                  <a:pt x="11994" y="9451"/>
                  <a:pt x="12109" y="9478"/>
                  <a:pt x="12179" y="9401"/>
                </a:cubicBezTo>
                <a:cubicBezTo>
                  <a:pt x="12187" y="9393"/>
                  <a:pt x="12196" y="9384"/>
                  <a:pt x="12204" y="9376"/>
                </a:cubicBezTo>
              </a:path>
              <a:path w="4639" h="819">
                <a:moveTo>
                  <a:pt x="11832" y="9500"/>
                </a:moveTo>
                <a:cubicBezTo>
                  <a:pt x="11807" y="9606"/>
                  <a:pt x="11787" y="9618"/>
                  <a:pt x="11857" y="9674"/>
                </a:cubicBezTo>
                <a:cubicBezTo>
                  <a:pt x="11909" y="9715"/>
                  <a:pt x="11994" y="9724"/>
                  <a:pt x="12055" y="9748"/>
                </a:cubicBezTo>
                <a:cubicBezTo>
                  <a:pt x="12112" y="9770"/>
                  <a:pt x="12207" y="9830"/>
                  <a:pt x="12204" y="9897"/>
                </a:cubicBezTo>
                <a:cubicBezTo>
                  <a:pt x="12200" y="9995"/>
                  <a:pt x="12130" y="10038"/>
                  <a:pt x="12055" y="10046"/>
                </a:cubicBezTo>
                <a:cubicBezTo>
                  <a:pt x="11973" y="10054"/>
                  <a:pt x="11955" y="10050"/>
                  <a:pt x="11906" y="9996"/>
                </a:cubicBezTo>
                <a:cubicBezTo>
                  <a:pt x="11878" y="9968"/>
                  <a:pt x="11869" y="9955"/>
                  <a:pt x="11881" y="9922"/>
                </a:cubicBezTo>
              </a:path>
              <a:path w="4639" h="819">
                <a:moveTo>
                  <a:pt x="12254" y="9451"/>
                </a:moveTo>
                <a:cubicBezTo>
                  <a:pt x="12280" y="9523"/>
                  <a:pt x="12289" y="9604"/>
                  <a:pt x="12328" y="9674"/>
                </a:cubicBezTo>
                <a:cubicBezTo>
                  <a:pt x="12366" y="9742"/>
                  <a:pt x="12435" y="9748"/>
                  <a:pt x="12502" y="9748"/>
                </a:cubicBezTo>
              </a:path>
              <a:path w="4639" h="819">
                <a:moveTo>
                  <a:pt x="12576" y="9327"/>
                </a:moveTo>
                <a:cubicBezTo>
                  <a:pt x="12576" y="9448"/>
                  <a:pt x="12555" y="9555"/>
                  <a:pt x="12551" y="9674"/>
                </a:cubicBezTo>
                <a:cubicBezTo>
                  <a:pt x="12547" y="9772"/>
                  <a:pt x="12507" y="9872"/>
                  <a:pt x="12526" y="9971"/>
                </a:cubicBezTo>
                <a:cubicBezTo>
                  <a:pt x="12540" y="10045"/>
                  <a:pt x="12566" y="10054"/>
                  <a:pt x="12576" y="10120"/>
                </a:cubicBezTo>
              </a:path>
              <a:path w="4639" h="819">
                <a:moveTo>
                  <a:pt x="12750" y="9451"/>
                </a:moveTo>
                <a:cubicBezTo>
                  <a:pt x="12825" y="9365"/>
                  <a:pt x="12817" y="9376"/>
                  <a:pt x="12923" y="9376"/>
                </a:cubicBezTo>
                <a:cubicBezTo>
                  <a:pt x="12980" y="9376"/>
                  <a:pt x="13042" y="9464"/>
                  <a:pt x="13022" y="9525"/>
                </a:cubicBezTo>
                <a:cubicBezTo>
                  <a:pt x="13006" y="9576"/>
                  <a:pt x="12919" y="9650"/>
                  <a:pt x="12874" y="9674"/>
                </a:cubicBezTo>
                <a:cubicBezTo>
                  <a:pt x="12835" y="9695"/>
                  <a:pt x="12810" y="9730"/>
                  <a:pt x="12774" y="9748"/>
                </a:cubicBezTo>
                <a:cubicBezTo>
                  <a:pt x="12828" y="9748"/>
                  <a:pt x="12876" y="9739"/>
                  <a:pt x="12923" y="9773"/>
                </a:cubicBezTo>
                <a:cubicBezTo>
                  <a:pt x="12982" y="9816"/>
                  <a:pt x="13035" y="9861"/>
                  <a:pt x="13072" y="9922"/>
                </a:cubicBezTo>
                <a:cubicBezTo>
                  <a:pt x="13100" y="9968"/>
                  <a:pt x="13051" y="10094"/>
                  <a:pt x="12998" y="10120"/>
                </a:cubicBezTo>
                <a:cubicBezTo>
                  <a:pt x="12939" y="10149"/>
                  <a:pt x="12809" y="10125"/>
                  <a:pt x="12774" y="10071"/>
                </a:cubicBezTo>
                <a:cubicBezTo>
                  <a:pt x="12774" y="10036"/>
                  <a:pt x="12770" y="10018"/>
                  <a:pt x="12750" y="9996"/>
                </a:cubicBezTo>
              </a:path>
              <a:path w="4639" h="819">
                <a:moveTo>
                  <a:pt x="13221" y="9451"/>
                </a:moveTo>
                <a:cubicBezTo>
                  <a:pt x="13474" y="9531"/>
                  <a:pt x="13444" y="9499"/>
                  <a:pt x="13444" y="9748"/>
                </a:cubicBezTo>
                <a:cubicBezTo>
                  <a:pt x="13444" y="9868"/>
                  <a:pt x="13403" y="9886"/>
                  <a:pt x="13345" y="9971"/>
                </a:cubicBezTo>
                <a:cubicBezTo>
                  <a:pt x="13287" y="10056"/>
                  <a:pt x="13303" y="10046"/>
                  <a:pt x="13221" y="10046"/>
                </a:cubicBezTo>
                <a:cubicBezTo>
                  <a:pt x="13196" y="10046"/>
                  <a:pt x="13188" y="10046"/>
                  <a:pt x="13171" y="10046"/>
                </a:cubicBezTo>
                <a:cubicBezTo>
                  <a:pt x="13177" y="10006"/>
                  <a:pt x="13206" y="9939"/>
                  <a:pt x="13246" y="9922"/>
                </a:cubicBezTo>
                <a:cubicBezTo>
                  <a:pt x="13321" y="9890"/>
                  <a:pt x="13368" y="10016"/>
                  <a:pt x="13419" y="10046"/>
                </a:cubicBezTo>
                <a:cubicBezTo>
                  <a:pt x="13476" y="10079"/>
                  <a:pt x="13555" y="10019"/>
                  <a:pt x="13593" y="9996"/>
                </a:cubicBezTo>
              </a:path>
              <a:path w="4639" h="819">
                <a:moveTo>
                  <a:pt x="13717" y="9302"/>
                </a:moveTo>
                <a:cubicBezTo>
                  <a:pt x="13717" y="9453"/>
                  <a:pt x="13704" y="9599"/>
                  <a:pt x="13692" y="9748"/>
                </a:cubicBezTo>
                <a:cubicBezTo>
                  <a:pt x="13683" y="9863"/>
                  <a:pt x="13717" y="9938"/>
                  <a:pt x="13742" y="10046"/>
                </a:cubicBezTo>
                <a:cubicBezTo>
                  <a:pt x="13753" y="10094"/>
                  <a:pt x="13775" y="10104"/>
                  <a:pt x="13816" y="10120"/>
                </a:cubicBezTo>
              </a:path>
              <a:path w="4639" h="819">
                <a:moveTo>
                  <a:pt x="14139" y="9823"/>
                </a:moveTo>
                <a:cubicBezTo>
                  <a:pt x="14174" y="9823"/>
                  <a:pt x="14186" y="9813"/>
                  <a:pt x="14188" y="9773"/>
                </a:cubicBezTo>
              </a:path>
              <a:path w="4639" h="819">
                <a:moveTo>
                  <a:pt x="14412" y="9401"/>
                </a:moveTo>
                <a:cubicBezTo>
                  <a:pt x="14449" y="9388"/>
                  <a:pt x="14433" y="9376"/>
                  <a:pt x="14486" y="9376"/>
                </a:cubicBezTo>
                <a:cubicBezTo>
                  <a:pt x="14623" y="9376"/>
                  <a:pt x="14628" y="9370"/>
                  <a:pt x="14709" y="9451"/>
                </a:cubicBezTo>
                <a:cubicBezTo>
                  <a:pt x="14783" y="9525"/>
                  <a:pt x="14752" y="9544"/>
                  <a:pt x="14734" y="9674"/>
                </a:cubicBezTo>
                <a:cubicBezTo>
                  <a:pt x="14722" y="9763"/>
                  <a:pt x="14657" y="9790"/>
                  <a:pt x="14610" y="9847"/>
                </a:cubicBezTo>
                <a:cubicBezTo>
                  <a:pt x="14564" y="9904"/>
                  <a:pt x="14582" y="9897"/>
                  <a:pt x="14511" y="9897"/>
                </a:cubicBezTo>
                <a:cubicBezTo>
                  <a:pt x="14521" y="9834"/>
                  <a:pt x="14519" y="9829"/>
                  <a:pt x="14585" y="9823"/>
                </a:cubicBezTo>
                <a:cubicBezTo>
                  <a:pt x="14627" y="9819"/>
                  <a:pt x="14701" y="9812"/>
                  <a:pt x="14734" y="9847"/>
                </a:cubicBezTo>
                <a:cubicBezTo>
                  <a:pt x="14760" y="9875"/>
                  <a:pt x="14788" y="9912"/>
                  <a:pt x="14808" y="9922"/>
                </a:cubicBezTo>
                <a:cubicBezTo>
                  <a:pt x="14833" y="9922"/>
                  <a:pt x="14841" y="9922"/>
                  <a:pt x="14833" y="9897"/>
                </a:cubicBezTo>
              </a:path>
              <a:path w="4639" h="819">
                <a:moveTo>
                  <a:pt x="14957" y="9550"/>
                </a:moveTo>
                <a:cubicBezTo>
                  <a:pt x="14957" y="9651"/>
                  <a:pt x="14975" y="9547"/>
                  <a:pt x="14982" y="9525"/>
                </a:cubicBezTo>
              </a:path>
              <a:path w="4639" h="819">
                <a:moveTo>
                  <a:pt x="15304" y="9376"/>
                </a:moveTo>
                <a:cubicBezTo>
                  <a:pt x="15334" y="9487"/>
                  <a:pt x="15313" y="9516"/>
                  <a:pt x="15304" y="9624"/>
                </a:cubicBezTo>
                <a:cubicBezTo>
                  <a:pt x="15292" y="9764"/>
                  <a:pt x="15335" y="9842"/>
                  <a:pt x="15354" y="9971"/>
                </a:cubicBezTo>
                <a:cubicBezTo>
                  <a:pt x="15354" y="10046"/>
                  <a:pt x="15354" y="10070"/>
                  <a:pt x="15354" y="10120"/>
                </a:cubicBezTo>
              </a:path>
              <a:path w="4639" h="819">
                <a:moveTo>
                  <a:pt x="10815" y="9624"/>
                </a:moveTo>
                <a:cubicBezTo>
                  <a:pt x="10870" y="9603"/>
                  <a:pt x="10884" y="9602"/>
                  <a:pt x="10939" y="9599"/>
                </a:cubicBezTo>
                <a:cubicBezTo>
                  <a:pt x="11131" y="9589"/>
                  <a:pt x="11321" y="9610"/>
                  <a:pt x="11509" y="9624"/>
                </a:cubicBezTo>
                <a:cubicBezTo>
                  <a:pt x="11707" y="9638"/>
                  <a:pt x="11884" y="9657"/>
                  <a:pt x="12080" y="9674"/>
                </a:cubicBezTo>
                <a:cubicBezTo>
                  <a:pt x="12308" y="9694"/>
                  <a:pt x="12529" y="9738"/>
                  <a:pt x="12750" y="9748"/>
                </a:cubicBezTo>
                <a:cubicBezTo>
                  <a:pt x="12885" y="9754"/>
                  <a:pt x="13010" y="9773"/>
                  <a:pt x="13146" y="9773"/>
                </a:cubicBezTo>
                <a:cubicBezTo>
                  <a:pt x="13239" y="9773"/>
                  <a:pt x="13365" y="9759"/>
                  <a:pt x="13419" y="9748"/>
                </a:cubicBezTo>
                <a:cubicBezTo>
                  <a:pt x="13492" y="9733"/>
                  <a:pt x="13552" y="9762"/>
                  <a:pt x="13618" y="9773"/>
                </a:cubicBezTo>
                <a:cubicBezTo>
                  <a:pt x="13663" y="9781"/>
                  <a:pt x="13678" y="9755"/>
                  <a:pt x="13717" y="9748"/>
                </a:cubicBezTo>
                <a:cubicBezTo>
                  <a:pt x="13742" y="9748"/>
                  <a:pt x="13750" y="9748"/>
                  <a:pt x="13767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38760" y="3187800"/>
            <a:ext cx="1911240" cy="81000"/>
          </a:xfrm>
          <a:custGeom>
            <a:avLst/>
            <a:gdLst/>
            <a:ahLst/>
            <a:rect l="l" t="t" r="r" b="b"/>
            <a:pathLst>
              <a:path w="5309" h="225">
                <a:moveTo>
                  <a:pt x="16247" y="9079"/>
                </a:moveTo>
                <a:cubicBezTo>
                  <a:pt x="16053" y="9024"/>
                  <a:pt x="15865" y="9046"/>
                  <a:pt x="15677" y="9004"/>
                </a:cubicBezTo>
                <a:cubicBezTo>
                  <a:pt x="15428" y="8948"/>
                  <a:pt x="15184" y="8922"/>
                  <a:pt x="14932" y="8880"/>
                </a:cubicBezTo>
                <a:cubicBezTo>
                  <a:pt x="14655" y="8834"/>
                  <a:pt x="14369" y="8855"/>
                  <a:pt x="14089" y="8855"/>
                </a:cubicBezTo>
                <a:cubicBezTo>
                  <a:pt x="13039" y="8855"/>
                  <a:pt x="11989" y="8855"/>
                  <a:pt x="10939" y="88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32000" y="430380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6201" y="12030"/>
                </a:moveTo>
                <a:cubicBezTo>
                  <a:pt x="6302" y="12005"/>
                  <a:pt x="6379" y="11988"/>
                  <a:pt x="6474" y="119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05000" y="4357800"/>
            <a:ext cx="63360" cy="1440"/>
          </a:xfrm>
          <a:custGeom>
            <a:avLst/>
            <a:gdLst/>
            <a:ahLst/>
            <a:rect l="l" t="t" r="r" b="b"/>
            <a:pathLst>
              <a:path w="174" h="1">
                <a:moveTo>
                  <a:pt x="6127" y="12105"/>
                </a:moveTo>
                <a:cubicBezTo>
                  <a:pt x="6226" y="12105"/>
                  <a:pt x="6242" y="12105"/>
                  <a:pt x="6300" y="121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62120" y="4098960"/>
            <a:ext cx="36720" cy="258840"/>
          </a:xfrm>
          <a:custGeom>
            <a:avLst/>
            <a:gdLst/>
            <a:ahLst/>
            <a:rect l="l" t="t" r="r" b="b"/>
            <a:pathLst>
              <a:path w="100" h="721">
                <a:moveTo>
                  <a:pt x="7169" y="11385"/>
                </a:moveTo>
                <a:cubicBezTo>
                  <a:pt x="7133" y="11492"/>
                  <a:pt x="7119" y="11570"/>
                  <a:pt x="7119" y="11683"/>
                </a:cubicBezTo>
                <a:cubicBezTo>
                  <a:pt x="7119" y="11805"/>
                  <a:pt x="7119" y="11916"/>
                  <a:pt x="7144" y="12030"/>
                </a:cubicBezTo>
                <a:cubicBezTo>
                  <a:pt x="7146" y="12040"/>
                  <a:pt x="7151" y="12148"/>
                  <a:pt x="7193" y="12105"/>
                </a:cubicBezTo>
                <a:cubicBezTo>
                  <a:pt x="7201" y="12088"/>
                  <a:pt x="7210" y="12072"/>
                  <a:pt x="7218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97120" y="4027320"/>
            <a:ext cx="187200" cy="303480"/>
          </a:xfrm>
          <a:custGeom>
            <a:avLst/>
            <a:gdLst/>
            <a:ahLst/>
            <a:rect l="l" t="t" r="r" b="b"/>
            <a:pathLst>
              <a:path w="522" h="844">
                <a:moveTo>
                  <a:pt x="7491" y="11782"/>
                </a:moveTo>
                <a:cubicBezTo>
                  <a:pt x="7574" y="11872"/>
                  <a:pt x="7674" y="12076"/>
                  <a:pt x="7838" y="12030"/>
                </a:cubicBezTo>
                <a:cubicBezTo>
                  <a:pt x="7933" y="12003"/>
                  <a:pt x="7959" y="11914"/>
                  <a:pt x="7987" y="11832"/>
                </a:cubicBezTo>
                <a:cubicBezTo>
                  <a:pt x="8016" y="11748"/>
                  <a:pt x="8002" y="11618"/>
                  <a:pt x="7962" y="11534"/>
                </a:cubicBezTo>
                <a:cubicBezTo>
                  <a:pt x="7913" y="11431"/>
                  <a:pt x="7833" y="11323"/>
                  <a:pt x="7739" y="11261"/>
                </a:cubicBezTo>
                <a:cubicBezTo>
                  <a:pt x="7683" y="11224"/>
                  <a:pt x="7603" y="11192"/>
                  <a:pt x="7541" y="11187"/>
                </a:cubicBezTo>
                <a:cubicBezTo>
                  <a:pt x="7504" y="11184"/>
                  <a:pt x="7531" y="11181"/>
                  <a:pt x="7541" y="112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09960" y="4010040"/>
            <a:ext cx="7920" cy="1602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8359" y="11137"/>
                </a:moveTo>
                <a:cubicBezTo>
                  <a:pt x="8359" y="11262"/>
                  <a:pt x="8368" y="11366"/>
                  <a:pt x="8384" y="11485"/>
                </a:cubicBezTo>
                <a:cubicBezTo>
                  <a:pt x="8384" y="11534"/>
                  <a:pt x="8384" y="11551"/>
                  <a:pt x="8384" y="115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4880" y="4303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458" y="11956"/>
                </a:moveTo>
                <a:lnTo>
                  <a:pt x="8458" y="1195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16120" y="4384800"/>
            <a:ext cx="615960" cy="27000"/>
          </a:xfrm>
          <a:custGeom>
            <a:avLst/>
            <a:gdLst/>
            <a:ahLst/>
            <a:rect l="l" t="t" r="r" b="b"/>
            <a:pathLst>
              <a:path w="1712" h="76">
                <a:moveTo>
                  <a:pt x="7268" y="12254"/>
                </a:moveTo>
                <a:cubicBezTo>
                  <a:pt x="7408" y="12223"/>
                  <a:pt x="7546" y="12189"/>
                  <a:pt x="7689" y="12179"/>
                </a:cubicBezTo>
                <a:cubicBezTo>
                  <a:pt x="7866" y="12167"/>
                  <a:pt x="8036" y="12194"/>
                  <a:pt x="8210" y="12204"/>
                </a:cubicBezTo>
                <a:cubicBezTo>
                  <a:pt x="8384" y="12214"/>
                  <a:pt x="8558" y="12224"/>
                  <a:pt x="8731" y="12229"/>
                </a:cubicBezTo>
                <a:cubicBezTo>
                  <a:pt x="8820" y="12232"/>
                  <a:pt x="8906" y="12241"/>
                  <a:pt x="8979" y="122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71840" y="4446720"/>
            <a:ext cx="160200" cy="16164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7590" y="12799"/>
                </a:moveTo>
                <a:cubicBezTo>
                  <a:pt x="7590" y="12717"/>
                  <a:pt x="7597" y="12651"/>
                  <a:pt x="7565" y="12576"/>
                </a:cubicBezTo>
                <a:cubicBezTo>
                  <a:pt x="7532" y="12501"/>
                  <a:pt x="7498" y="12459"/>
                  <a:pt x="7441" y="12402"/>
                </a:cubicBezTo>
                <a:cubicBezTo>
                  <a:pt x="7394" y="12355"/>
                  <a:pt x="7356" y="12353"/>
                  <a:pt x="7293" y="12353"/>
                </a:cubicBezTo>
                <a:cubicBezTo>
                  <a:pt x="7219" y="12353"/>
                  <a:pt x="7202" y="12389"/>
                  <a:pt x="7169" y="12452"/>
                </a:cubicBezTo>
                <a:cubicBezTo>
                  <a:pt x="7140" y="12507"/>
                  <a:pt x="7144" y="12539"/>
                  <a:pt x="7144" y="12601"/>
                </a:cubicBezTo>
                <a:cubicBezTo>
                  <a:pt x="7144" y="12661"/>
                  <a:pt x="7163" y="12675"/>
                  <a:pt x="7169" y="12725"/>
                </a:cubicBezTo>
                <a:cubicBezTo>
                  <a:pt x="7170" y="12735"/>
                  <a:pt x="7203" y="12793"/>
                  <a:pt x="7218" y="12774"/>
                </a:cubicBezTo>
                <a:cubicBezTo>
                  <a:pt x="7218" y="12766"/>
                  <a:pt x="7218" y="12758"/>
                  <a:pt x="7218" y="127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3840" y="4606920"/>
            <a:ext cx="28440" cy="250920"/>
          </a:xfrm>
          <a:custGeom>
            <a:avLst/>
            <a:gdLst/>
            <a:ahLst/>
            <a:rect l="l" t="t" r="r" b="b"/>
            <a:pathLst>
              <a:path w="76" h="696">
                <a:moveTo>
                  <a:pt x="6846" y="12799"/>
                </a:moveTo>
                <a:cubicBezTo>
                  <a:pt x="6846" y="12971"/>
                  <a:pt x="6848" y="13130"/>
                  <a:pt x="6871" y="13295"/>
                </a:cubicBezTo>
                <a:cubicBezTo>
                  <a:pt x="6875" y="13321"/>
                  <a:pt x="6881" y="13454"/>
                  <a:pt x="6896" y="13469"/>
                </a:cubicBezTo>
                <a:cubicBezTo>
                  <a:pt x="6915" y="13488"/>
                  <a:pt x="6921" y="13499"/>
                  <a:pt x="6921" y="134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44840" y="4545000"/>
            <a:ext cx="44280" cy="206280"/>
          </a:xfrm>
          <a:custGeom>
            <a:avLst/>
            <a:gdLst/>
            <a:ahLst/>
            <a:rect l="l" t="t" r="r" b="b"/>
            <a:pathLst>
              <a:path w="125" h="571">
                <a:moveTo>
                  <a:pt x="7069" y="12626"/>
                </a:moveTo>
                <a:cubicBezTo>
                  <a:pt x="7089" y="12738"/>
                  <a:pt x="7105" y="12819"/>
                  <a:pt x="7144" y="12923"/>
                </a:cubicBezTo>
                <a:cubicBezTo>
                  <a:pt x="7170" y="12992"/>
                  <a:pt x="7189" y="13074"/>
                  <a:pt x="7193" y="13146"/>
                </a:cubicBezTo>
                <a:cubicBezTo>
                  <a:pt x="7193" y="13163"/>
                  <a:pt x="7193" y="13179"/>
                  <a:pt x="7193" y="131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16120" y="484020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7268" y="13444"/>
                </a:moveTo>
                <a:cubicBezTo>
                  <a:pt x="7268" y="13452"/>
                  <a:pt x="7268" y="13461"/>
                  <a:pt x="7268" y="134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52840" y="4419720"/>
            <a:ext cx="276120" cy="420480"/>
          </a:xfrm>
          <a:custGeom>
            <a:avLst/>
            <a:gdLst/>
            <a:ahLst/>
            <a:rect l="l" t="t" r="r" b="b"/>
            <a:pathLst>
              <a:path w="770" h="1167">
                <a:moveTo>
                  <a:pt x="7962" y="12675"/>
                </a:moveTo>
                <a:cubicBezTo>
                  <a:pt x="7900" y="12580"/>
                  <a:pt x="7836" y="12448"/>
                  <a:pt x="7739" y="12378"/>
                </a:cubicBezTo>
                <a:cubicBezTo>
                  <a:pt x="7672" y="12330"/>
                  <a:pt x="7625" y="12283"/>
                  <a:pt x="7541" y="12278"/>
                </a:cubicBezTo>
                <a:cubicBezTo>
                  <a:pt x="7473" y="12274"/>
                  <a:pt x="7399" y="12276"/>
                  <a:pt x="7367" y="12353"/>
                </a:cubicBezTo>
                <a:cubicBezTo>
                  <a:pt x="7351" y="12392"/>
                  <a:pt x="7374" y="12520"/>
                  <a:pt x="7392" y="12551"/>
                </a:cubicBezTo>
                <a:cubicBezTo>
                  <a:pt x="7440" y="12631"/>
                  <a:pt x="7510" y="12679"/>
                  <a:pt x="7590" y="12725"/>
                </a:cubicBezTo>
                <a:cubicBezTo>
                  <a:pt x="7654" y="12762"/>
                  <a:pt x="7716" y="12796"/>
                  <a:pt x="7789" y="12799"/>
                </a:cubicBezTo>
                <a:cubicBezTo>
                  <a:pt x="7844" y="12801"/>
                  <a:pt x="7881" y="12800"/>
                  <a:pt x="7913" y="12750"/>
                </a:cubicBezTo>
                <a:cubicBezTo>
                  <a:pt x="7929" y="12726"/>
                  <a:pt x="7963" y="12653"/>
                  <a:pt x="7962" y="12626"/>
                </a:cubicBezTo>
                <a:cubicBezTo>
                  <a:pt x="7962" y="12598"/>
                  <a:pt x="7960" y="12587"/>
                  <a:pt x="7938" y="12576"/>
                </a:cubicBezTo>
                <a:cubicBezTo>
                  <a:pt x="7936" y="12598"/>
                  <a:pt x="7912" y="12693"/>
                  <a:pt x="7913" y="12700"/>
                </a:cubicBezTo>
                <a:cubicBezTo>
                  <a:pt x="7922" y="12780"/>
                  <a:pt x="7924" y="12890"/>
                  <a:pt x="7938" y="12973"/>
                </a:cubicBezTo>
                <a:cubicBezTo>
                  <a:pt x="7955" y="13077"/>
                  <a:pt x="7996" y="13197"/>
                  <a:pt x="8037" y="13295"/>
                </a:cubicBezTo>
                <a:cubicBezTo>
                  <a:pt x="8059" y="13349"/>
                  <a:pt x="8118" y="13419"/>
                  <a:pt x="8136" y="134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09960" y="4510080"/>
            <a:ext cx="27000" cy="169920"/>
          </a:xfrm>
          <a:custGeom>
            <a:avLst/>
            <a:gdLst/>
            <a:ahLst/>
            <a:rect l="l" t="t" r="r" b="b"/>
            <a:pathLst>
              <a:path w="76" h="473">
                <a:moveTo>
                  <a:pt x="8359" y="12526"/>
                </a:moveTo>
                <a:cubicBezTo>
                  <a:pt x="8406" y="12557"/>
                  <a:pt x="8370" y="12611"/>
                  <a:pt x="8384" y="12675"/>
                </a:cubicBezTo>
                <a:cubicBezTo>
                  <a:pt x="8404" y="12765"/>
                  <a:pt x="8422" y="12857"/>
                  <a:pt x="8434" y="12948"/>
                </a:cubicBezTo>
                <a:cubicBezTo>
                  <a:pt x="8434" y="12965"/>
                  <a:pt x="8434" y="12981"/>
                  <a:pt x="8434" y="129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4880" y="488484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8458" y="13568"/>
                </a:moveTo>
                <a:cubicBezTo>
                  <a:pt x="8458" y="13576"/>
                  <a:pt x="8458" y="13585"/>
                  <a:pt x="8458" y="135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nomial coefficients can be done on the calculator to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or Instru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6 into your calc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-PRB-3 to get n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Enter for the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4840" y="1677960"/>
            <a:ext cx="669960" cy="366840"/>
          </a:xfrm>
          <a:custGeom>
            <a:avLst/>
            <a:gdLst/>
            <a:ahLst/>
            <a:rect l="l" t="t" r="r" b="b"/>
            <a:pathLst>
              <a:path w="1861" h="1018">
                <a:moveTo>
                  <a:pt x="3820" y="5035"/>
                </a:moveTo>
                <a:cubicBezTo>
                  <a:pt x="3941" y="5035"/>
                  <a:pt x="4053" y="5029"/>
                  <a:pt x="4167" y="5011"/>
                </a:cubicBezTo>
                <a:cubicBezTo>
                  <a:pt x="4202" y="5005"/>
                  <a:pt x="4255" y="5011"/>
                  <a:pt x="4291" y="5011"/>
                </a:cubicBezTo>
              </a:path>
              <a:path w="1861" h="1018">
                <a:moveTo>
                  <a:pt x="3845" y="5283"/>
                </a:moveTo>
                <a:cubicBezTo>
                  <a:pt x="3915" y="5310"/>
                  <a:pt x="3967" y="5308"/>
                  <a:pt x="4043" y="5308"/>
                </a:cubicBezTo>
                <a:cubicBezTo>
                  <a:pt x="4107" y="5308"/>
                  <a:pt x="4133" y="5305"/>
                  <a:pt x="4192" y="5283"/>
                </a:cubicBezTo>
              </a:path>
              <a:path w="1861" h="1018">
                <a:moveTo>
                  <a:pt x="4713" y="4688"/>
                </a:moveTo>
                <a:cubicBezTo>
                  <a:pt x="4694" y="4755"/>
                  <a:pt x="4713" y="4802"/>
                  <a:pt x="4713" y="4887"/>
                </a:cubicBezTo>
                <a:cubicBezTo>
                  <a:pt x="4713" y="4988"/>
                  <a:pt x="4738" y="5080"/>
                  <a:pt x="4738" y="5184"/>
                </a:cubicBezTo>
                <a:cubicBezTo>
                  <a:pt x="4738" y="5321"/>
                  <a:pt x="4741" y="5451"/>
                  <a:pt x="4762" y="5581"/>
                </a:cubicBezTo>
                <a:cubicBezTo>
                  <a:pt x="4773" y="5647"/>
                  <a:pt x="4750" y="5631"/>
                  <a:pt x="4787" y="5680"/>
                </a:cubicBezTo>
                <a:cubicBezTo>
                  <a:pt x="4787" y="5645"/>
                  <a:pt x="4792" y="5628"/>
                  <a:pt x="4812" y="5606"/>
                </a:cubicBezTo>
              </a:path>
              <a:path w="1861" h="1018">
                <a:moveTo>
                  <a:pt x="5135" y="4762"/>
                </a:moveTo>
                <a:cubicBezTo>
                  <a:pt x="5215" y="4741"/>
                  <a:pt x="5307" y="4737"/>
                  <a:pt x="5383" y="4713"/>
                </a:cubicBezTo>
                <a:cubicBezTo>
                  <a:pt x="5451" y="4691"/>
                  <a:pt x="5510" y="4672"/>
                  <a:pt x="5581" y="4663"/>
                </a:cubicBezTo>
              </a:path>
              <a:path w="1861" h="1018">
                <a:moveTo>
                  <a:pt x="5209" y="4688"/>
                </a:moveTo>
                <a:cubicBezTo>
                  <a:pt x="5185" y="4744"/>
                  <a:pt x="5075" y="4922"/>
                  <a:pt x="5110" y="5011"/>
                </a:cubicBezTo>
                <a:cubicBezTo>
                  <a:pt x="5124" y="5048"/>
                  <a:pt x="5149" y="5069"/>
                  <a:pt x="5159" y="5110"/>
                </a:cubicBezTo>
                <a:cubicBezTo>
                  <a:pt x="5219" y="5110"/>
                  <a:pt x="5197" y="5102"/>
                  <a:pt x="5234" y="5060"/>
                </a:cubicBezTo>
                <a:cubicBezTo>
                  <a:pt x="5256" y="5035"/>
                  <a:pt x="5269" y="4972"/>
                  <a:pt x="5308" y="4961"/>
                </a:cubicBezTo>
                <a:cubicBezTo>
                  <a:pt x="5375" y="4942"/>
                  <a:pt x="5507" y="4964"/>
                  <a:pt x="5556" y="5011"/>
                </a:cubicBezTo>
                <a:cubicBezTo>
                  <a:pt x="5599" y="5051"/>
                  <a:pt x="5667" y="5174"/>
                  <a:pt x="5680" y="5234"/>
                </a:cubicBezTo>
                <a:cubicBezTo>
                  <a:pt x="5697" y="5309"/>
                  <a:pt x="5663" y="5368"/>
                  <a:pt x="5631" y="5432"/>
                </a:cubicBezTo>
                <a:cubicBezTo>
                  <a:pt x="5591" y="5514"/>
                  <a:pt x="5511" y="5543"/>
                  <a:pt x="5432" y="5581"/>
                </a:cubicBezTo>
                <a:cubicBezTo>
                  <a:pt x="5340" y="5625"/>
                  <a:pt x="5260" y="5647"/>
                  <a:pt x="5159" y="56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31:21Z</dcterms:created>
  <dc:creator>jnewman</dc:creator>
  <dc:description/>
  <dc:language>en-US</dc:language>
  <cp:lastModifiedBy>abeason</cp:lastModifiedBy>
  <dcterms:modified xsi:type="dcterms:W3CDTF">2009-03-25T17:28:46Z</dcterms:modified>
  <cp:revision>17</cp:revision>
  <dc:subject/>
  <dc:title>Lesson 9.5 part one</dc:title>
</cp:coreProperties>
</file>